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E487-9428-4B2F-A8D2-4A39232CFA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FBD3-D466-41FC-9E3B-711709FD41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D09D-85EB-4C1A-9F56-F62ADB537B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9D11-3F84-440E-92D8-637A42F86A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ADCA-6CB9-4A2C-8C30-997C24053E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220C-87A9-46D1-BA74-7BFCB24101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647A-43B2-48CB-83EE-1CB1183C79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8355-8F79-451C-9AE4-082031FE2F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BB8E-F7D2-46C1-B52F-D9AB4BE397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D59B-105D-4F2B-89DB-7E0C0A8241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C789-4C4D-4B8A-AA7E-180A9722B8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6E54-827E-4D87-BBB4-49F5758B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195C-F8C1-4968-8DFD-B2566486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C6B-183F-4509-8912-9E302DF2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D937-E375-4A0C-8DD4-B66A0199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CA0-CFE7-4F19-A494-5DEBADD3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28C-86EB-4D2E-BB62-014B4D25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50D8-15CF-4A30-924D-128456ED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BD09-2CD5-479F-9DDA-799CBB7D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36BE-A5EE-4923-BE49-0E39E3B2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D03B-8163-40EB-A068-B15ADC32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F73-A157-42C5-860F-68F8D9DE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DA8-C966-4731-8A10-B3AAE2C7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640C-80DC-4425-9D0D-08937D5E29F2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p.greenwichmeantime.com/time-zone/europe/uk/scotland/images/flag-of-scotland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psy.gla.ac.uk/~martinl/Assets/Images/Scottish%20Thistle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psy.gla.ac.uk/~martinl/Assets/Images/Scottish%20Thistle.jpg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HXyZwhB-Ic&amp;feature=related" TargetMode="External"/><Relationship Id="rId2" Type="http://schemas.openxmlformats.org/officeDocument/2006/relationships/hyperlink" Target="http://upload.wikimedia.org/wikipedia/en/e/ef/High_road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xzlF68YqOY" TargetMode="External"/><Relationship Id="rId2" Type="http://schemas.openxmlformats.org/officeDocument/2006/relationships/hyperlink" Target="http://en.wikipedia.org/wiki/File:Taggart_title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azEqbRrrMA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5692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V DRAMA AND DISCOURSES OF SCOTTISHN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71360" y="3714840"/>
            <a:ext cx="67467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Do the discourses still exist and do they have a place in modern Scottish dram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86080" y="785880"/>
            <a:ext cx="2571840" cy="135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857160"/>
            <a:ext cx="852480" cy="1357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58040" y="857160"/>
            <a:ext cx="928800" cy="1357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O THE DISCOURSES HAVE A PLACE IN MODERN SCOTTISH DRAMA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artan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ilyard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ydesid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dern Scotland (landscap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dern Scotland (culture/peo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OTTISH TV DRAMAS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ARNOCK WAY – 1976-197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AKE THE HIGH ROAD – 1980-199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IGH ROAD – 1994-20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AGGART – 1983-PRESENT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ONARCH OF THE GLEN – 2000-200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IVER CITY – 2002-PRESENT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ARNOCK 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arnock Way was a short-lived Scottish Soap Op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ed by Scottish Television for the ITV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show was a forerunner of Take the High R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t in a town halfway between Glasgow and Edinburg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1980 Garnock Way was replaced by Take the High R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ich was a bigger budget affair and more in keeping with the 'tartan' perception of Scot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AKE THE HIGH ROAD/HIGH RO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ake the High Road was a soap opera produced by Scottish Televi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t in the fictional village of Glendarroc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xteriors were filmed in the real-life village of Luss on the banks of Loch Lomo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 1994, the series' name was changed to just High Road, and from then on it continued to be produced by Scottish Television, for a Scottish audience, until it was cancelled in April 2003.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Take the High Road - 1/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File:High roa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14760" y="1143000"/>
            <a:ext cx="2714400" cy="150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AGG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aggart is a long-running Scottish detective programm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reated by Glenn Chandle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de by STV Productions for the ITV network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aggart is a Glaswegian detective television programme, originally set and filmed in the area of Maryhill police station in Glasgow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ternationally famous and is now translated into many languages including German, French and Japanese. 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UTV Programme Promotion (2002) - Tagg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Taggart titl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60" y="428760"/>
            <a:ext cx="2786040" cy="128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NARCH OF THE G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ed by Ecosse Films for BBC Scotland and broadcast on BBC One for seven series between 2000 and 200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narch of the Glen is loosely based on Compton Mackenzie's Highland Novels, which are set in the same location but in the 1930s and 1940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ows the more stereotypical Scot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artanry and kilyardism are predominant features throughout.</a:t>
            </a: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Monarch of the glen S1-E1-P1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upload.wikimedia.org/wikipedia/en/thumb/d/d9/MOTG_S2Cast.jpg/300px-MOTG_S2Cast.jpg"/>
          <p:cNvPicPr/>
          <p:nvPr/>
        </p:nvPicPr>
        <p:blipFill>
          <a:blip r:embed="rId2"/>
          <a:stretch/>
        </p:blipFill>
        <p:spPr>
          <a:xfrm>
            <a:off x="142920" y="0"/>
            <a:ext cx="1571760" cy="1643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IVER 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iver City is a Scottish television drama series created by Stephen Greenhor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is produced and broadcast by BBC Scotland weekly, and is set in the fictional Glasgow suburb of Shieldinc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show will be rolled out to a British audience on BBC Two, expected some time this year. YouTube - Janey Godley in "River City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http://3.bp.blogspot.com/_d9gnDZO_tEc/R8f_ZTjUzfI/AAAAAAAAASQ/70jAVNwiG-8/s200/rivercity.jpg"/>
          <p:cNvPicPr/>
          <p:nvPr/>
        </p:nvPicPr>
        <p:blipFill>
          <a:blip r:embed="rId1"/>
          <a:stretch/>
        </p:blipFill>
        <p:spPr>
          <a:xfrm>
            <a:off x="928800" y="714240"/>
            <a:ext cx="2357280" cy="1571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SS WELL KNOW SCOTTISH DRAM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ter McDoug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Just a boys g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Just another Satur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own among the big boys (Billy Connol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lephants’ graveyard (Billy Connol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ouTube - Just Another Saturday 7 of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ouTube - Down Among The Big Boys par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ouTube - Elephants Graveyard 1 0f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VOLUTION OF SCOTTISH DRA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ouTube - 30 Years of Scottish - Whats on Channel Ten, h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lder dramas portrayed Scottish life as very serious and h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t much fun being had by the characters, always struggling through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modern Scottish drama has more room for fun in the characters l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3:31:10Z</dcterms:created>
  <dc:creator>GCU</dc:creator>
  <dc:description/>
  <dc:language>en-US</dc:language>
  <cp:lastModifiedBy>Ronnie- Confidential</cp:lastModifiedBy>
  <dcterms:modified xsi:type="dcterms:W3CDTF">2010-03-19T12:08:14Z</dcterms:modified>
  <cp:revision>41</cp:revision>
  <dc:subject/>
  <dc:title>TV DRAMA AND DISCOURSES OF SCOTTISHNESS</dc:title>
</cp:coreProperties>
</file>