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7C19-1A58-4472-AAEF-4130B4F7BD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136F-DBCE-4C15-AD71-52EC0EE654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7C48-E1D7-481D-B569-E4AD76A576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7B57-B93E-40C1-BCE5-496F221BBC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1518-3AED-41CE-839C-A1E874412C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7C03-D235-467E-8349-DD1AA93EF1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3F1C-8CDB-414E-8F84-189E5F7B47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54A1-F0CC-4F0C-92E6-21746D1D3B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E775-DBBF-45C7-9FA5-ACB6957576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F557-0616-4F12-8FC9-60D5BF0DE1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0210-2114-4085-B4A9-003B57E99D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D47-7B0D-4F4F-BA8B-BF28943E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4566-5E8D-4BC4-B99D-A43DFC35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82C-65C3-41E5-8A10-CA8845CA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AE0-8C18-4CF8-A4A9-1A102B62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BF22-D777-44D3-AEC0-2684233C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137C-7CF8-4F77-8555-F4202B5F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0B0-5654-4B5A-8578-B9EEC0C9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62B3-6616-47BB-B355-451F11E7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145D-DE2F-4E05-B067-D5086D88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9CA-FAFB-4A54-82E8-51AD231F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0A00-9C82-49D2-BBFD-AC9EAAEA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1BC-C6D9-496B-B742-DC3EE1C9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56DB-6179-4878-9FB7-9169DD9C45D3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p.greenwichmeantime.com/time-zone/europe/uk/scotland/images/flag-of-scotland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sy.gla.ac.uk/~martinl/Assets/Images/Scottish%20Thistle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psy.gla.ac.uk/~martinl/Assets/Images/Scottish%20Thistle.jp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HXyZwhB-Ic&amp;feature=related" TargetMode="External"/><Relationship Id="rId2" Type="http://schemas.openxmlformats.org/officeDocument/2006/relationships/hyperlink" Target="http://upload.wikimedia.org/wikipedia/en/e/ef/High_road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xzlF68YqOY" TargetMode="External"/><Relationship Id="rId2" Type="http://schemas.openxmlformats.org/officeDocument/2006/relationships/hyperlink" Target="http://en.wikipedia.org/wiki/File:Taggart_titl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azEqbRrrMA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5692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V DRAMA AND DISCOURSES OF SCOTTISHN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71360" y="3714840"/>
            <a:ext cx="6746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Do the discourses still exist and do they have a place in modern Scottish dram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86080" y="785880"/>
            <a:ext cx="2571840" cy="135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857160"/>
            <a:ext cx="852480" cy="1357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58040" y="857160"/>
            <a:ext cx="928800" cy="1357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O THE DISCOURSES HAVE A PLACE IN MODERN SCOTTISH DRAMA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rtan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ilyard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ydesid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dern Scotland (landscap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dern Scotland (culture/peo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OTTISH TV DRAMAS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ARNOCK WAY – 1976-197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KE THE HIGH ROAD – 1980-199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IGH ROAD – 1994-20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GGART – 1983-PRESENT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NARCH OF THE GLEN – 2000-200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IVER CITY – 2002-PRESENT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ARNOCK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arnock Way was a short-lived Scottish Soap Op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d by Scottish Television for the ITV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show was a forerunner of Take the High R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t in a town halfway between Glasgow and Edinburg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1980 Garnock Way was replaced by Take the High R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ich was a bigger budget affair and more in keeping with the 'tartan' perception of Scot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AKE THE HIGH ROAD/HIGH RO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ke the High Road was a soap opera produced by Scottish Televi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t in the fictional village of Glendarroc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xteriors were filmed in the real-life village of Luss on the banks of Loch Lomo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 1994, the series' name was changed to just High Road, and from then on it continued to be produced by Scottish Television, for a Scottish audience, until it was cancelled in April 2003.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Take the High Road - 1/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File:High roa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14760" y="1143000"/>
            <a:ext cx="2714400" cy="150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AGG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ggart is a long-running Scottish detective programm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reated by Glenn Chandle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de by STV Productions for the ITV network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ggart is a Glaswegian detective television programme, originally set and filmed in the area of Maryhill police station in Glasgow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ternationally famous and is now translated into many languages including German, French and Japanese. 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UTV Programme Promotion (2002) - Tagg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Taggart tit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428760"/>
            <a:ext cx="2786040" cy="128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NARCH OF THE G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d by Ecosse Films for BBC Scotland and broadcast on BBC One for seven series between 2000 and 200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arch of the Glen is loosely based on Compton Mackenzie's Highland Novels, which are set in the same location but in the 1930s and 1940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ows the more stereotypical Scot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rtanry and kilyardism are predominant features throughout.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Monarch of the glen S1-E1-P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upload.wikimedia.org/wikipedia/en/thumb/d/d9/MOTG_S2Cast.jpg/300px-MOTG_S2Cast.jpg"/>
          <p:cNvPicPr/>
          <p:nvPr/>
        </p:nvPicPr>
        <p:blipFill>
          <a:blip r:embed="rId2"/>
          <a:stretch/>
        </p:blipFill>
        <p:spPr>
          <a:xfrm>
            <a:off x="142920" y="0"/>
            <a:ext cx="1571760" cy="1643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IVER 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iver City is a Scottish television drama series created by Stephen Greenhor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is produced and broadcast by BBC Scotland weekly, and is set in the fictional Glasgow suburb of Shieldinc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show will be rolled out to a British audience on BBC Two, expected some time this year. YouTube - Janey Godley in "River City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http://3.bp.blogspot.com/_d9gnDZO_tEc/R8f_ZTjUzfI/AAAAAAAAASQ/70jAVNwiG-8/s200/rivercity.jpg"/>
          <p:cNvPicPr/>
          <p:nvPr/>
        </p:nvPicPr>
        <p:blipFill>
          <a:blip r:embed="rId1"/>
          <a:stretch/>
        </p:blipFill>
        <p:spPr>
          <a:xfrm>
            <a:off x="928800" y="714240"/>
            <a:ext cx="2357280" cy="1571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SS WELL KNOW SCOTTISH DRAM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ter McDoug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Just a boys g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Just another Satur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own among the big boys (Billy Connol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lephants’ graveyard (Billy Connol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Just Another Saturday 7 of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Down Among The Big Boys par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Elephants Graveyard 1 0f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OLUTION OF SCOTTISH DRA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30 Years of Scottish - Whats on Channel Ten, h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lder dramas portrayed Scottish life as very serious and h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t much fun being had by the characters, always struggling through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modern Scottish drama has more room for fun in the characters l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3:31:10Z</dcterms:created>
  <dc:creator>GCU</dc:creator>
  <dc:description/>
  <dc:language>en-US</dc:language>
  <cp:lastModifiedBy>Ronnie- Confidential</cp:lastModifiedBy>
  <dcterms:modified xsi:type="dcterms:W3CDTF">2010-03-19T12:08:14Z</dcterms:modified>
  <cp:revision>41</cp:revision>
  <dc:subject/>
  <dc:title>TV DRAMA AND DISCOURSES OF SCOTTISHNESS</dc:title>
</cp:coreProperties>
</file>