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E3DA-7935-422F-B505-0BC431B0B5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8520-18A9-40AF-AF9B-5E4367A8A8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FF73-716F-4031-946A-E4FCB617C3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ACBF-9DB0-4C20-A5AD-2A75E61289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8285-BC8F-493F-99AF-2A44C2B357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D51D-1DA5-45EF-9BEC-F82AEDD81E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5B05-E1A7-4E68-9224-24F5122209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22ED-20F6-487E-92D0-98E7A526A4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2476-43B3-4BFE-9AC5-6C0EAAC107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3215-304C-4E30-89F2-8855FBF425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2AA2-1D88-481B-88E4-6FB29BD923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259E-152D-44FE-9051-757D0496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997A-C8DA-4127-A27B-218EC53E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E5D5-2C96-4BF6-B2CA-AAC6F2FF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A9D9-603E-47A0-BF83-F2862C67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44B0-2790-4694-98B4-6B02BA9C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2B0E-6A9C-4CB3-B795-B642DC5E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696F-57DC-4DDD-A5EC-EBD23B8A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66FF-61B4-43BF-9305-8BC6EA62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6E52-B85B-4F3D-98FC-D3509E1C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4238-3AFA-49DE-A8CA-E396DAF2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04B5-CE09-4C6B-B6F2-AE842C6C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0C7D-99EB-4B6A-B16C-C0EA91E0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8AEE-DF2C-47DE-86B9-B86514539449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p.greenwichmeantime.com/time-zone/europe/uk/scotland/images/flag-of-scotland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psy.gla.ac.uk/~martinl/Assets/Images/Scottish%20Thistle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psy.gla.ac.uk/~martinl/Assets/Images/Scottish%20Thistle.jpg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HXyZwhB-Ic&amp;feature=related" TargetMode="External"/><Relationship Id="rId2" Type="http://schemas.openxmlformats.org/officeDocument/2006/relationships/hyperlink" Target="http://upload.wikimedia.org/wikipedia/en/e/ef/High_road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xzlF68YqOY" TargetMode="External"/><Relationship Id="rId2" Type="http://schemas.openxmlformats.org/officeDocument/2006/relationships/hyperlink" Target="http://en.wikipedia.org/wiki/File:Taggart_title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azEqbRrrMA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35692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V DRAMA AND DISCOURSES OF SCOTTISHN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71360" y="3714840"/>
            <a:ext cx="67467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Do the discourses still exist and do they have a place in modern Scottish dram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86080" y="785880"/>
            <a:ext cx="2571840" cy="135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857160"/>
            <a:ext cx="852480" cy="1357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58040" y="857160"/>
            <a:ext cx="928800" cy="1357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O THE DISCOURSES HAVE A PLACE IN MODERN SCOTTISH DRAMA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artan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ilyard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ydesid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odern Scotland (landscap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odern Scotland (culture/peop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OTTISH TV DRAMAS 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ARNOCK WAY – 1976-197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AKE THE HIGH ROAD – 1980-199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IGH ROAD – 1994-20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AGGART – 1983-PRESENT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ONARCH OF THE GLEN – 2000-200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IVER CITY – 2002-PRESENT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ARNOCK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arnock Way was a short-lived Scottish Soap Op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duced by Scottish Television for the ITV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show was a forerunner of Take the High R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t in a town halfway between Glasgow and Edinburg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1980 Garnock Way was replaced by Take the High R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ich was a bigger budget affair and more in keeping with the 'tartan' perception of Scotl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AKE THE HIGH ROAD/HIGH RO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ake the High Road was a soap opera produced by Scottish Televi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t in the fictional village of Glendarroch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xteriors were filmed in the real-life village of Luss on the banks of Loch Lomo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 1994, the series' name was changed to just High Road, and from then on it continued to be produced by Scottish Television, for a Scottish audience, until it was cancelled in April 2003.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YouTube - Take the High Road - 1/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File:High road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14760" y="1143000"/>
            <a:ext cx="2714400" cy="150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AGG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aggart is a long-running Scottish detective programm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reated by Glenn Chandler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de by STV Productions for the ITV network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aggart is a Glaswegian detective television programme, originally set and filmed in the area of Maryhill police station in Glasgow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ternationally famous and is now translated into many languages including German, French and Japanese. 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YouTube - UTV Programme Promotion (2002) - Tagg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Taggart titl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2960" y="428760"/>
            <a:ext cx="2786040" cy="128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NARCH OF THE G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duced by Ecosse Films for BBC Scotland and broadcast on BBC One for seven series between 2000 and 200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narch of the Glen is loosely based on Compton Mackenzie's Highland Novels, which are set in the same location but in the 1930s and 1940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hows the more stereotypical Scotl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artanry and kilyardism are predominant features throughout.</a:t>
            </a: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YouTube - Monarch of the glen S1-E1-P1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upload.wikimedia.org/wikipedia/en/thumb/d/d9/MOTG_S2Cast.jpg/300px-MOTG_S2Cast.jpg"/>
          <p:cNvPicPr/>
          <p:nvPr/>
        </p:nvPicPr>
        <p:blipFill>
          <a:blip r:embed="rId2"/>
          <a:stretch/>
        </p:blipFill>
        <p:spPr>
          <a:xfrm>
            <a:off x="142920" y="0"/>
            <a:ext cx="1571760" cy="1643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IVER 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iver City is a Scottish television drama series created by Stephen Greenhor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t is produced and broadcast by BBC Scotland weekly, and is set in the fictional Glasgow suburb of Shieldinc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show will be rolled out to a British audience on BBC Two, expected some time this year. YouTube - Janey Godley in "River City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http://3.bp.blogspot.com/_d9gnDZO_tEc/R8f_ZTjUzfI/AAAAAAAAASQ/70jAVNwiG-8/s200/rivercity.jpg"/>
          <p:cNvPicPr/>
          <p:nvPr/>
        </p:nvPicPr>
        <p:blipFill>
          <a:blip r:embed="rId1"/>
          <a:stretch/>
        </p:blipFill>
        <p:spPr>
          <a:xfrm>
            <a:off x="928800" y="714240"/>
            <a:ext cx="2357280" cy="1571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SS WELL KNOW SCOTTISH DRAM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ter McDoug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Just a boys g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Just another Satur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own among the big boys (Billy Connoll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lephants’ graveyard (Billy Connoll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ouTube - Just Another Saturday 7 of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ouTube - Down Among The Big Boys part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ouTube - Elephants Graveyard 1 0f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VOLUTION OF SCOTTISH DRA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ouTube - 30 Years of Scottish - Whats on Channel Ten, h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lder dramas portrayed Scottish life as very serious and h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t much fun being had by the characters, always struggling through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modern Scottish drama has more room for fun in the characters l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3:31:10Z</dcterms:created>
  <dc:creator>GCU</dc:creator>
  <dc:description/>
  <dc:language>en-US</dc:language>
  <cp:lastModifiedBy>Ronnie- Confidential</cp:lastModifiedBy>
  <dcterms:modified xsi:type="dcterms:W3CDTF">2010-03-19T12:08:14Z</dcterms:modified>
  <cp:revision>41</cp:revision>
  <dc:subject/>
  <dc:title>TV DRAMA AND DISCOURSES OF SCOTTISHNESS</dc:title>
</cp:coreProperties>
</file>