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8C06-8B94-4A9D-9F8F-FEDA14DF4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75AF-2435-4300-8766-E6E43810D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1438-9846-405B-B4E0-886D5DC6FF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3799-5733-48E9-B8A5-5940FCF9C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85A4-9FA8-4F54-816A-1D1EC0908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50BB-4F52-45C3-8807-2087BC8880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6D97-7DF9-4FFD-A159-122A2E7D0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685B-EB13-4C79-9B07-F6352A49A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DDC1-D6E2-4DCF-93AB-69AAE6C67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4DB7-E698-43C4-96CC-D75D03B8C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AF24-7FC5-49D2-AC5A-2BF44D29A7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0F0-1D05-4319-BFD5-93823B22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D74-5628-454F-9D1F-A067A0AE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349-F601-49AB-BF30-8CAD056D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4E0-E270-40E4-AA09-157F947E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FE8-CCF9-4C22-A2E2-C8AC8010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1D1-E117-43F9-8FEF-EB9E4FA3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136-5108-42AA-95AB-A80B7C4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D3C-0925-4278-BD09-F328570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A4A-EDC3-4E17-A4E3-594CA1EC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EF4-6399-48B9-97E8-F1E3D1D6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3A0-02F3-4A97-B670-5254A1E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C2E-1BEE-4D67-967B-FC6A0955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6359-E472-428B-B927-31AA9FDAB79A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p.greenwichmeantime.com/time-zone/europe/uk/scotland/images/flag-of-scotland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sy.gla.ac.uk/~martinl/Assets/Images/Scottish%20Thistle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sy.gla.ac.uk/~martinl/Assets/Images/Scottish%20Thistle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XyZwhB-Ic&amp;feature=related" TargetMode="External"/><Relationship Id="rId2" Type="http://schemas.openxmlformats.org/officeDocument/2006/relationships/hyperlink" Target="http://upload.wikimedia.org/wikipedia/en/e/ef/High_road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xzlF68YqOY" TargetMode="External"/><Relationship Id="rId2" Type="http://schemas.openxmlformats.org/officeDocument/2006/relationships/hyperlink" Target="http://en.wikipedia.org/wiki/File:Taggart_titl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azEqbRrrM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56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V DRAMA AND DISCOURSES OF SCOTTISH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360" y="3714840"/>
            <a:ext cx="674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o the discourses still exist and do they have a place in modern Scottish dra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785880"/>
            <a:ext cx="257184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857160"/>
            <a:ext cx="852480" cy="135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58040" y="857160"/>
            <a:ext cx="9288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 THE DISCOURSES HAVE A PLACE IN MODERN SCOTTISH DRAMA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rtan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ilyar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ydes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landsca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culture/peo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OTTISH TV DRAMAS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RNOCK WAY – 1976-19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KE THE HIGH ROAD – 1980-19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IGH ROAD – 1994-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GGART – 1983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NARCH OF THE GLEN – 2000-200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VER CITY – 2002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ARNOCK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arnock Way was a short-lived Scottish Soap Op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Scottish Television for the ITV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as a forerunner of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 in a town halfway between Glasgow and Edinbur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1980 Garnock Way was replaced by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ch was a bigger budget affair and more in keeping with the 'tartan' perception of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KE THE HIGH ROAD/HIGH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the High Road was a soap opera produced by Scottish Televi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t in the fictional village of Glendarro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teriors were filmed in the real-life village of Luss on the banks of Loch Lomo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1994, the series' name was changed to just High Road, and from then on it continued to be produced by Scottish Television, for a Scottish audience, until it was cancelled in April 2003.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Take the High Road - 1/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File:High ro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14760" y="1143000"/>
            <a:ext cx="27144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GG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long-running Scottish detective programm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reated by Glenn Chandl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de by STV Productions for the ITV networ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Glaswegian detective television programme, originally set and filmed in the area of Maryhill police station in Glasg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ternationally famous and is now translated into many languages including German, French and Japanese.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UTV Programme Promotion (2002) - Tagg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Taggart tit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28760"/>
            <a:ext cx="278604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ARCH OF THE G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Ecosse Films for BBC Scotland and broadcast on BBC One for seven series between 2000 and 200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arch of the Glen is loosely based on Compton Mackenzie's Highland Novels, which are set in the same location but in the 1930s and 1940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ws the more stereotypical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rtanry and kilyardism are predominant features throughout.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Monarch of the glen S1-E1-P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upload.wikimedia.org/wikipedia/en/thumb/d/d9/MOTG_S2Cast.jpg/300px-MOTG_S2Cast.jpg"/>
          <p:cNvPicPr/>
          <p:nvPr/>
        </p:nvPicPr>
        <p:blipFill>
          <a:blip r:embed="rId2"/>
          <a:stretch/>
        </p:blipFill>
        <p:spPr>
          <a:xfrm>
            <a:off x="142920" y="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IV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ver City is a Scottish television drama series created by Stephen Greenho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produced and broadcast by BBC Scotland weekly, and is set in the fictional Glasgow suburb of Shieldin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ill be rolled out to a British audience on BBC Two, expected some time this year. YouTube - Janey Godley in "River City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3.bp.blogspot.com/_d9gnDZO_tEc/R8f_ZTjUzfI/AAAAAAAAASQ/70jAVNwiG-8/s200/rivercity.jpg"/>
          <p:cNvPicPr/>
          <p:nvPr/>
        </p:nvPicPr>
        <p:blipFill>
          <a:blip r:embed="rId1"/>
          <a:stretch/>
        </p:blipFill>
        <p:spPr>
          <a:xfrm>
            <a:off x="928800" y="714240"/>
            <a:ext cx="235728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 WELL KNOW SCOTTISH DRA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ter McDoug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 boys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nother Satu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wn among the big boys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lephants’ graveyard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Just Another Saturday 7 of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Down Among The Big Boys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Elephants Graveyard 1 0f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OLUTION OF SCOTTISH DRA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30 Years of Scottish - Whats on Channel Ten, 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lder dramas portrayed Scottish life as very serious and h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t much fun being had by the characters, always struggling through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odern Scottish drama has more room for fun in the characters l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3:31:10Z</dcterms:created>
  <dc:creator>GCU</dc:creator>
  <dc:description/>
  <dc:language>en-US</dc:language>
  <cp:lastModifiedBy>Ronnie- Confidential</cp:lastModifiedBy>
  <dcterms:modified xsi:type="dcterms:W3CDTF">2010-03-19T12:08:14Z</dcterms:modified>
  <cp:revision>41</cp:revision>
  <dc:subject/>
  <dc:title>TV DRAMA AND DISCOURSES OF SCOTTISHNESS</dc:title>
</cp:coreProperties>
</file>