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F246-6DE8-4BD6-BF04-FBEE094CD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D7E-63D1-4C7C-8F2F-6B9213AC30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1FB-AB4E-4ABB-B597-063185495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E26-CA1B-456A-A971-704A34E72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E780-2916-48C8-920A-DDD936163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8EB-EE28-4D7C-B973-E94D33BA8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B913-0616-4C50-AE62-7335D8065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A74-E817-4E91-B057-154E72BC9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535-FDE6-4C15-8CD1-28571D29D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F09E-DF76-48EB-928B-27E6D3899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31A-7752-45BD-9236-D06F5CEDE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F82-BDF0-4BC4-AED3-88612C6F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F36-F8C3-41DA-B4AB-D9C063B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EF4-65B9-427B-978F-67C27A8E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9DC-C90A-4370-B923-F7A89511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2E0-07F6-4757-964F-6DD0352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070-26A3-4C57-83DC-9B8903B1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64A-0569-4059-967A-5095447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3A2-5205-4F54-9C46-9F7F8861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0CD-7416-4B37-9076-57ACE1C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DAD-145F-40C5-8BA2-79D6C5F1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8A1-2CE3-41E6-BF1F-BE1E85E2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C51-C254-44E7-9C00-082835E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9CD9-261A-4184-BE08-B87C7EED75A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p.greenwichmeantime.com/time-zone/europe/uk/scotland/images/flag-of-scotland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sy.gla.ac.uk/~martinl/Assets/Images/Scottish%20Thistl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sy.gla.ac.uk/~martinl/Assets/Images/Scottish%20Thistle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XyZwhB-Ic&amp;feature=related" TargetMode="External"/><Relationship Id="rId2" Type="http://schemas.openxmlformats.org/officeDocument/2006/relationships/hyperlink" Target="http://upload.wikimedia.org/wikipedia/en/e/ef/High_roa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zlF68YqOY" TargetMode="External"/><Relationship Id="rId2" Type="http://schemas.openxmlformats.org/officeDocument/2006/relationships/hyperlink" Target="http://en.wikipedia.org/wiki/File:Taggart_titl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azEqbRrrM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V DRAMA AND DISCOURSES OF SCOTTISH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3714840"/>
            <a:ext cx="674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o the discourses still exist and do they have a place in modern Scottish dra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785880"/>
            <a:ext cx="25718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857160"/>
            <a:ext cx="85248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857160"/>
            <a:ext cx="928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 THE DISCOURSES HAVE A PLACE IN MODERN SCOTTISH DRAM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rtan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ilya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ydes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landsca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culture/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OTTISH TV DRAMA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RNOCK WAY – 1976-19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KE THE HIGH ROAD – 1980-19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 ROAD – 1994-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GGART – 1983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ARCH OF THE GLEN – 2000-20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VER CITY – 2002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ARNOCK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rnock Way was a short-lived Scottish Soap Op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Scottish Television for the ITV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as a forerunner of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in a town halfway between Glasgow and Edinbur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980 Garnock Way was replaced by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was a bigger budget affair and more in keeping with the 'tartan' perception of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KE THE HIGH ROAD/HIGH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e High Road was a soap opera produced by Scottish Telev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t in the fictional village of Glendarro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riors were filmed in the real-life village of Luss on the banks of Loch Lom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1994, the series' name was changed to just High Road, and from then on it continued to be produced by Scottish Television, for a Scottish audience, until it was cancelled in April 2003.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Take the High Road - 1/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ile:High ro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14300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GG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long-running Scottish detective programm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eated by Glenn Chandl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de by STV Productions for the ITV net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Glaswegian detective television programme, originally set and filmed in the area of Maryhill police station in Glasg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nationally famous and is now translated into many languages including German, French and Japanese.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UTV Programme Promotion (2002) - Tagg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Taggart tit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28760"/>
            <a:ext cx="2786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ARCH OF THE G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Ecosse Films for BBC Scotland and broadcast on BBC One for seven series between 2000 and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arch of the Glen is loosely based on Compton Mackenzie's Highland Novels, which are set in the same location but in the 1930s and 1940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s the more stereotypical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rtanry and kilyardism are predominant features throughout.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Monarch of the glen S1-E1-P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thumb/d/d9/MOTG_S2Cast.jpg/300px-MOTG_S2Cast.jpg"/>
          <p:cNvPicPr/>
          <p:nvPr/>
        </p:nvPicPr>
        <p:blipFill>
          <a:blip r:embed="rId2"/>
          <a:stretch/>
        </p:blipFill>
        <p:spPr>
          <a:xfrm>
            <a:off x="142920" y="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IV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ver City is a Scottish television drama series created by Stephen Greenho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roduced and broadcast by BBC Scotland weekly, and is set in the fictional Glasgow suburb of Shieldin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ill be rolled out to a British audience on BBC Two, expected some time this year. YouTube - Janey Godley in "River City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3.bp.blogspot.com/_d9gnDZO_tEc/R8f_ZTjUzfI/AAAAAAAAASQ/70jAVNwiG-8/s200/rivercity.jpg"/>
          <p:cNvPicPr/>
          <p:nvPr/>
        </p:nvPicPr>
        <p:blipFill>
          <a:blip r:embed="rId1"/>
          <a:stretch/>
        </p:blipFill>
        <p:spPr>
          <a:xfrm>
            <a:off x="928800" y="714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 WELL KNOW SCOTTISH D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ter McDoug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 boys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nother Satu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wn among the big boys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lephants’ graveyard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Just Another Saturday 7 of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Down Among The Big Boys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Elephants Graveyard 1 0f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OLUTION OF SCOTTISH DR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30 Years of Scottish - Whats on Channel Ten, 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lder dramas portrayed Scottish life as very serious and h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much fun being had by the characters, always struggling through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odern Scottish drama has more room for fun in the characters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3:31:10Z</dcterms:created>
  <dc:creator>GCU</dc:creator>
  <dc:description/>
  <dc:language>en-US</dc:language>
  <cp:lastModifiedBy>Ronnie- Confidential</cp:lastModifiedBy>
  <dcterms:modified xsi:type="dcterms:W3CDTF">2010-03-19T12:08:14Z</dcterms:modified>
  <cp:revision>41</cp:revision>
  <dc:subject/>
  <dc:title>TV DRAMA AND DISCOURSES OF SCOTTISHNESS</dc:title>
</cp:coreProperties>
</file>