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E5B42-8198-4C1B-B6BD-C925020C0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02C79-E41E-4804-95F4-E9119BBD9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97E63-B4ED-4630-BAC6-575282A8F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09CC6-6954-4AEA-A7F1-4305E5ED4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D6C12-B8BA-4D57-A22B-91EC6A1DC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D5731-FCBC-4C74-A5E6-97ED6A6E2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408C8-92FA-4C4B-A422-904F4B3DF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A2F26-1542-42F4-ABDC-85680B419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A01BF-702B-4D47-8DB7-E515BB334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5A9B5-7B6D-4A00-B5FB-BA2213E61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F1F80-8E00-433A-9DDF-EE3516CCC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F30AE-AF1D-4EA2-A807-2AE574EA9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1" marL="660960" indent="-254160">
              <a:spcBef>
                <a:spcPts val="799"/>
              </a:spcBef>
              <a:buClr>
                <a:srgbClr val="ffff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2" marL="1017000" indent="-203400"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3" marL="1424160" indent="-203400">
              <a:spcBef>
                <a:spcPts val="799"/>
              </a:spcBef>
              <a:buClr>
                <a:srgbClr val="ffff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4" marL="1830960" indent="-203400">
              <a:spcBef>
                <a:spcPts val="799"/>
              </a:spcBef>
              <a:buClr>
                <a:srgbClr val="ffffff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5" marL="1830960" indent="-203400">
              <a:spcBef>
                <a:spcPts val="799"/>
              </a:spcBef>
              <a:buClr>
                <a:srgbClr val="ffffff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6" marL="1830960" indent="-203400">
              <a:spcBef>
                <a:spcPts val="799"/>
              </a:spcBef>
              <a:buClr>
                <a:srgbClr val="ffffff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entury Gothic"/>
                <a:ea typeface="ヒラギノ角ゴ Pro W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40AB0-C4B4-4C9B-8DFC-2B0DB52139EE}" type="slidenum">
              <a:rPr b="0" lang="en-US" sz="1400" spc="-1" strike="noStrike">
                <a:solidFill>
                  <a:srgbClr val="ffffff"/>
                </a:solidFill>
                <a:latin typeface="Century Gothic"/>
                <a:ea typeface="ヒラギノ角ゴ Pro W3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upload.wikimedia.org/wikipedia/commons/e/ec/The_Daily_Courant.png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foxbusiness.com/search-results/m/22383652/murdoch-on-the-future-of-newspapers.htm" TargetMode="Externa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Rectangle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895480" y="1980720"/>
            <a:ext cx="5562720" cy="20574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Gothic"/>
              </a:rPr>
              <a:t>The Press in Scotland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2895480" y="4267080"/>
            <a:ext cx="5562720" cy="15242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Rebecca Macdonald &amp; Claire Harrop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The Times coverage - “Every time he lost…he was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Century Gothic"/>
              </a:rPr>
              <a:t>not really a British hero, merely a Scottish loser</a:t>
            </a: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.”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This type of story repeated across other papers too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Gothic"/>
              </a:rPr>
              <a:t>What identity does this give us?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No matter what, Scotland will always be proud - loyalty - like Tartan Army?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omparisons to Haggis and deep fried mars bars very stereotypica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84" name="Picture 4" descr="Untitled2"/>
          <p:cNvPicPr/>
          <p:nvPr/>
        </p:nvPicPr>
        <p:blipFill>
          <a:blip r:embed="rId2"/>
          <a:stretch/>
        </p:blipFill>
        <p:spPr>
          <a:xfrm>
            <a:off x="2666880" y="4648320"/>
            <a:ext cx="3581640" cy="21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Gothic"/>
              </a:rPr>
              <a:t>John Smeaton in the Press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Ordinary worker from Glasgow, actions created great media hype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The Sun - “Only in Glasgow would a suicide Bomber get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Century Gothic"/>
              </a:rPr>
              <a:t>a boot between the legs.”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A call to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Century Gothic"/>
              </a:rPr>
              <a:t>donate 1,000 pints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 has been easily met.”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The Daily Mail - “A New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Century Gothic"/>
              </a:rPr>
              <a:t>Braveheart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.”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The Journal - “An unlikely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Century Gothic"/>
              </a:rPr>
              <a:t>folk hero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.”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The Times - “Smeats, you are the greatest, right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Century Gothic"/>
              </a:rPr>
              <a:t>up there with The Proclaimers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.”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Gothic"/>
              </a:rPr>
              <a:t>What identity does this give us?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Likened to that of the classic hero stereotype seen in Braveheart.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References to drinking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cotland treasuring its talent whether it’s good or bad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Identity of a region - Glasgow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Gothic"/>
              </a:rPr>
              <a:t>Seminar Discussion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Do you think the Scottish Press play a role in creating our identity?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If the Press is wiped out in the future, will Scottish Identity change?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Gothic"/>
              </a:rPr>
              <a:t>Overview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History of Press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Rise of Press in Scotland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cottish Press Today and Future Challenges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cottish Identity in Press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minar Discussion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entury Gothic"/>
              </a:rPr>
              <a:t>History of the press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entury Gothic"/>
              </a:rPr>
              <a:t>The earliest forms of what could be described as newspapers can be traced back to Rome in 131 BC.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294840" indent="-294840"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entury Gothic"/>
              </a:rPr>
              <a:t>11</a:t>
            </a:r>
            <a:r>
              <a:rPr b="0" lang="en-GB" sz="3200" spc="-1" strike="noStrike" baseline="30000">
                <a:solidFill>
                  <a:srgbClr val="ffffff"/>
                </a:solidFill>
                <a:latin typeface="Century Gothic"/>
              </a:rPr>
              <a:t>th</a:t>
            </a:r>
            <a:r>
              <a:rPr b="0" lang="en-GB" sz="3200" spc="-1" strike="noStrike">
                <a:solidFill>
                  <a:srgbClr val="ffffff"/>
                </a:solidFill>
                <a:latin typeface="Century Gothic"/>
              </a:rPr>
              <a:t> century Chinese development of the technique of printing and the invention of paper.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294840" indent="-294840"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entury Gothic"/>
              </a:rPr>
              <a:t>Later development of  a movable printing press by Gutenburg in 1455.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TextBox 8"/>
          <p:cNvSpPr/>
          <p:nvPr/>
        </p:nvSpPr>
        <p:spPr>
          <a:xfrm>
            <a:off x="571680" y="714240"/>
            <a:ext cx="807228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entury Gothic"/>
              </a:rPr>
              <a:t>Origins of the British press can be linked back to the 17</a:t>
            </a:r>
            <a:r>
              <a:rPr b="0" lang="en-GB" sz="2800" spc="-1" strike="noStrike" baseline="30000">
                <a:solidFill>
                  <a:srgbClr val="ffffff"/>
                </a:solidFill>
                <a:latin typeface="Century Gothic"/>
              </a:rPr>
              <a:t>th</a:t>
            </a:r>
            <a:r>
              <a:rPr b="0" lang="en-GB" sz="2800" spc="-1" strike="noStrike">
                <a:solidFill>
                  <a:srgbClr val="ffffff"/>
                </a:solidFill>
                <a:latin typeface="Century Gothic"/>
              </a:rPr>
              <a:t> centu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entury Gothic"/>
              </a:rPr>
              <a:t>1702 the first dail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entury Gothic"/>
              </a:rPr>
              <a:t>newspaper appeared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entury Gothic"/>
              </a:rPr>
              <a:t>The earliest surviving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entury Gothic"/>
              </a:rPr>
              <a:t>Scottish newspaper i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entury Gothic"/>
              </a:rPr>
              <a:t>the Mercuriu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entury Gothic"/>
              </a:rPr>
              <a:t>Caledonius (1661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Picture 2" descr="File:The Daily Courant.pn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857840" y="1214280"/>
            <a:ext cx="3643200" cy="546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Date Placeholder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Box 3"/>
          <p:cNvSpPr/>
          <p:nvPr/>
        </p:nvSpPr>
        <p:spPr>
          <a:xfrm>
            <a:off x="357120" y="357120"/>
            <a:ext cx="8358120" cy="801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entury Gothic"/>
              </a:rPr>
              <a:t>Rise of the Scottish pres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entury Gothic"/>
              </a:rPr>
              <a:t>Second half of the 19</a:t>
            </a:r>
            <a:r>
              <a:rPr b="0" lang="en-GB" sz="2800" spc="-1" strike="noStrike" baseline="30000">
                <a:solidFill>
                  <a:srgbClr val="ffffff"/>
                </a:solidFill>
                <a:latin typeface="Century Gothic"/>
              </a:rPr>
              <a:t>th</a:t>
            </a:r>
            <a:r>
              <a:rPr b="0" lang="en-GB" sz="2800" spc="-1" strike="noStrike">
                <a:solidFill>
                  <a:srgbClr val="ffffff"/>
                </a:solidFill>
                <a:latin typeface="Century Gothic"/>
              </a:rPr>
              <a:t> century papers were now free of taxes, made from wood pulp instead of rags and advances in technological innovations had revolutionised the availability and content of pape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entury Gothic"/>
              </a:rPr>
              <a:t>The Daily Record was launched in 1895 and after four years had a circulation of one mill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entury Gothic"/>
              </a:rPr>
              <a:t>This figure slipped to 700, 000 in the 1950’s, partly due to the dawn of the TV ag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Gothic"/>
              </a:rPr>
              <a:t>Scottish Press Today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Generally same trends as English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Revenue - more emphasis on Ads but also exceptions of Metro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Readership now hugely broadened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More Scottish titles and editionising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Decline trends year on year - internet challenges - the end or </a:t>
            </a:r>
            <a:r>
              <a:rPr b="0" lang="en-US" sz="2800" spc="-1" strike="noStrike" u="sng">
                <a:solidFill>
                  <a:srgbClr val="99ccff"/>
                </a:solidFill>
                <a:uFillTx/>
                <a:latin typeface="Century Gothic"/>
                <a:hlinkClick r:id="rId2"/>
              </a:rPr>
              <a:t>survival?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Why are the editionised more popular than Scottish papers?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Editionised more popular because of pricing and marketing?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Scottish people want a wider perspective on issues?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Prefer the content - more sport and football?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These versions all include “Scottish” in the title? - “Imagined Communities”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Gothic"/>
              </a:rPr>
              <a:t>Scottish Identity in Press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We have seen identity in Film - how is it represented in the Press?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298440" indent="-298440"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onsider two examples from a range of newspapers - Scottish and non-Scottish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298440" indent="-298440"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Example from a sporting nature and one from an ordinary individua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Gothic"/>
              </a:rPr>
              <a:t>Andy Murray in the Press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90000"/>
              </a:srgbClr>
            </a:outerShdw>
          </a:effectLst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Scottish Press coverage  - “…English will ditch him quicker than you could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Century Gothic"/>
              </a:rPr>
              <a:t>deep fry a mars bar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 should he fail…”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“…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If he serves up a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Century Gothic"/>
              </a:rPr>
              <a:t> win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, they’ll consider him as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Century Gothic"/>
              </a:rPr>
              <a:t>British as the Union Jack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. An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Century Gothic"/>
              </a:rPr>
              <a:t>early exit, they’ll consider him Scottish again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.”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Should he suffer an embarrassing early exit he will suddenly becom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Century Gothic"/>
              </a:rPr>
              <a:t>as Scottish as haggis.”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8T15:55:04Z</dcterms:created>
  <dc:creator>Rebecca  Macdonald</dc:creator>
  <dc:description/>
  <dc:language>en-US</dc:language>
  <cp:lastModifiedBy>Rebecca  Macdonald</cp:lastModifiedBy>
  <dcterms:modified xsi:type="dcterms:W3CDTF">2010-03-12T14:50:49Z</dcterms:modified>
  <cp:revision>22</cp:revision>
  <dc:subject/>
  <dc:title>The Press in Scotland</dc:title>
</cp:coreProperties>
</file>