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606-6C2D-460A-9EDA-E231B69C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08F-5C5F-4E1C-8523-C8BA1660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EFD-8FC4-40C1-BCD0-32E05E24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E63-5F80-43CF-B1F8-495E9595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F5E-8913-4A47-B300-D219EBE6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855-2AB0-4D50-A28D-7E3FDE7C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B51-3DFB-4C55-B5D1-A0FD6114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5FD-CF97-4514-A512-4D6F5BD8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B60-10D5-497E-B0C8-7B588422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81A-3D06-46D4-A70D-15809EEF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3BB-5B58-40D3-A672-6CB0695E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052-B923-4DEE-A94E-1012514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04C-921C-4AF2-A358-21AF546FD4A1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c/The_Daily_Courant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xbusiness.com/search-results/m/22383652/murdoch-on-the-future-of-newspapers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Press in Scotlan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becca Macdonald &amp; Claire Harro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imes coverage - “Every time he lost…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not really a British hero, merely a Scottish los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type of story repeated across other papers to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 matter what, Scotland will always be proud - loyalty - like Tartan Arm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parisons to Haggis and deep fried mars bars very stereotyp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Picture 4" descr="Untitled2"/>
          <p:cNvPicPr/>
          <p:nvPr/>
        </p:nvPicPr>
        <p:blipFill>
          <a:blip r:embed="rId2"/>
          <a:stretch/>
        </p:blipFill>
        <p:spPr>
          <a:xfrm>
            <a:off x="2666880" y="4648320"/>
            <a:ext cx="3581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hn Smeaton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dinary worker from Glasgow, actions created great media h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n - “Only in Glasgow would a suicide Bomber g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 boot between the leg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all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onate 1,000 pint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has been easily met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aily Mail - “A Ne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avehear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urnal - “An unlike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folk her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imes - “Smeats, you are the greatest, ri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up there with The Proclaimer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kened to that of the classic hero stereotype seen in Bravehe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s to drink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land treasuring its talent whether it’s good or ba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ty of a region - Glasgow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you think the Scottish Press play a role in creating our identit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the Press is wiped out in the future, will Scottish Identity change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istory of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ise of Press in Scotlan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Press Today and Future Challen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History of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he earliest forms of what could be described as newspapers can be traced back to Rome in 131 B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1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century Chinese development of the technique of printing and the invention of pap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Later development of  a movable printing press by Gutenburg in 1455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Origins of the British press can be linked back to the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702 the first da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wspaper appeare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earliest surv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cottish newspaper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ercu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ledonius (16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ile:The Daily Courant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214280"/>
            <a:ext cx="3643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7120" y="357120"/>
            <a:ext cx="83581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Rise of the Scottish p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cond half of the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 papers were now free of taxes, made from wood pulp instead of rags and advances in technological innovations had revolutionised the availability and content of pa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Daily Record was launched in 1895 and after four years had a circulation of one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is figure slipped to 700, 000 in the 1950’s, partly due to the dawn of the TV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Press Today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erally same trends as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enue - more emphasis on Ads but also exceptions of Metr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adership now hugely broaden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re Scottish titles and editioni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cline trends year on year - internet challenges - the end or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surviva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are the editionised more popular than Scottish paper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ditionised more popular because of pricing and marketing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eople want a wider perspective on issu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er the content - more sport and footbal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versions all include “Scottish” in the title? - “Imagined Communiti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have seen identity in Film - how is it represented in the Pres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nsider two examples from a range of newspapers - Scottish and non-Scottis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from a sporting nature and one from an ordinary individu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dy Murray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ress coverage  - “…English will ditch him quicker than you 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eep fry a mars ba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hould he fail…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he serves up 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 w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they’ll consider him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itish as the Union Jack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arly exit, they’ll consider him Scottish aga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uld he suffer an embarrassing early exit he will suddenl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s Scottish as haggi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5:04Z</dcterms:created>
  <dc:creator>Rebecca  Macdonald</dc:creator>
  <dc:description/>
  <dc:language>en-US</dc:language>
  <cp:lastModifiedBy>Rebecca  Macdonald</cp:lastModifiedBy>
  <dcterms:modified xsi:type="dcterms:W3CDTF">2010-03-12T14:50:49Z</dcterms:modified>
  <cp:revision>22</cp:revision>
  <dc:subject/>
  <dc:title>The Press in Scotland</dc:title>
</cp:coreProperties>
</file>