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5D6E-7377-4498-915A-49AA6C9C4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4D99-5B4E-48E9-8249-1DA388699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2CE7-E82F-494A-8C3B-B49DB8B89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260D-540C-4D98-BF45-ECCCFA257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9E2E-EA83-4699-9A73-3A3663DFF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0B70-9F95-4A0B-84A6-33F8C08C2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A062-A3B3-4E4E-B3FE-E245BD41F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C361-9361-48EC-BD4C-462C48FF0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86B4-92FA-4409-A0CC-D4875441B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A2B1-8EAC-4164-9D6F-B17BD124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832A-AE45-47C2-99C8-F47B4D5B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43B9-7FEB-4AA5-AE9B-670867F9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660960" indent="-25416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017000" indent="-20340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24160" indent="-20340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830960" indent="-20340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53EAB-9723-4B1D-8D16-69AFD704AF09}" type="slidenum">
              <a: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e/ec/The_Daily_Courant.png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oxbusiness.com/search-results/m/22383652/murdoch-on-the-future-of-newspapers.htm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895480" y="1980720"/>
            <a:ext cx="5562720" cy="20574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The Press in Scotland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895480" y="4267080"/>
            <a:ext cx="5562720" cy="15242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Rebecca Macdonald &amp; Claire Harrop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e Times coverage - “Every time he lost…he wa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entury Gothic"/>
              </a:rPr>
              <a:t>not really a British hero, merely a Scottish loser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.”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s type of story repeated across other papers too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What identity does this give us?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No matter what, Scotland will always be proud - loyalty - like Tartan Army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omparisons to Haggis and deep fried mars bars very stereotypica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84" name="Picture 4" descr="Untitled2"/>
          <p:cNvPicPr/>
          <p:nvPr/>
        </p:nvPicPr>
        <p:blipFill>
          <a:blip r:embed="rId2"/>
          <a:stretch/>
        </p:blipFill>
        <p:spPr>
          <a:xfrm>
            <a:off x="2666880" y="4648320"/>
            <a:ext cx="3581640" cy="21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John Smeaton in the Press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Ordinary worker from Glasgow, actions created great media hyp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 Sun - “Only in Glasgow would a suicide Bomber ge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a boot between the legs.”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 call to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donate 1,000 pints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has been easily met.”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 Daily Mail - “A New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Braveheart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.”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 Journal - “An unlikely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folk hero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.”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 Times - “Smeats, you are the greatest, righ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up there with The Proclaimers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.”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What identity does this give us?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Likened to that of the classic hero stereotype seen in Braveheart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References to drinking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cotland treasuring its talent whether it’s good or bad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Identity of a region - Glasgow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Seminar Discussion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Do you think the Scottish Press play a role in creating our identity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If the Press is wiped out in the future, will Scottish Identity change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Overview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History of Pres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Rise of Press in Scotland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cottish Press Today and Future Challenge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cottish Identity in Pres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minar Discussio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entury Gothic"/>
              </a:rPr>
              <a:t>History of the press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entury Gothic"/>
              </a:rPr>
              <a:t>The earliest forms of what could be described as newspapers can be traced back to Rome in 131 BC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entury Gothic"/>
              </a:rPr>
              <a:t>11</a:t>
            </a:r>
            <a:r>
              <a:rPr b="0" lang="en-GB" sz="3200" spc="-1" strike="noStrike" baseline="30000">
                <a:solidFill>
                  <a:srgbClr val="ffffff"/>
                </a:solidFill>
                <a:latin typeface="Century Gothic"/>
              </a:rPr>
              <a:t>th</a:t>
            </a:r>
            <a:r>
              <a:rPr b="0" lang="en-GB" sz="3200" spc="-1" strike="noStrike">
                <a:solidFill>
                  <a:srgbClr val="ffffff"/>
                </a:solidFill>
                <a:latin typeface="Century Gothic"/>
              </a:rPr>
              <a:t> century Chinese development of the technique of printing and the invention of paper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entury Gothic"/>
              </a:rPr>
              <a:t>Later development of  a movable printing press by Gutenburg in 1455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Box 8"/>
          <p:cNvSpPr/>
          <p:nvPr/>
        </p:nvSpPr>
        <p:spPr>
          <a:xfrm>
            <a:off x="571680" y="714240"/>
            <a:ext cx="80722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Origins of the British press can be linked back to the 17</a:t>
            </a:r>
            <a:r>
              <a:rPr b="0" lang="en-GB" sz="2800" spc="-1" strike="noStrike" baseline="30000">
                <a:solidFill>
                  <a:srgbClr val="ffffff"/>
                </a:solidFill>
                <a:latin typeface="Century Gothic"/>
              </a:rPr>
              <a:t>th</a:t>
            </a: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 cent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1702 the first dail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newspaper appeared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The earliest surviv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Scottish newspaper 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the Mercuriu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Caledonius (166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File:The Daily Courant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57840" y="1214280"/>
            <a:ext cx="3643200" cy="546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357120" y="357120"/>
            <a:ext cx="8358120" cy="80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entury Gothic"/>
              </a:rPr>
              <a:t>Rise of the Scottish p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Second half of the 19</a:t>
            </a:r>
            <a:r>
              <a:rPr b="0" lang="en-GB" sz="2800" spc="-1" strike="noStrike" baseline="30000">
                <a:solidFill>
                  <a:srgbClr val="ffffff"/>
                </a:solidFill>
                <a:latin typeface="Century Gothic"/>
              </a:rPr>
              <a:t>th</a:t>
            </a: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 century papers were now free of taxes, made from wood pulp instead of rags and advances in technological innovations had revolutionised the availability and content of pap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The Daily Record was launched in 1895 and after four years had a circulation of one mill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This figure slipped to 700, 000 in the 1950’s, partly due to the dawn of the TV 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Scottish Press Today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Generally same trends as English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Revenue - more emphasis on Ads but also exceptions of Metro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Readership now hugely broadened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More Scottish titles and editionising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Decline trends year on year - internet challenges - the end or </a:t>
            </a:r>
            <a:r>
              <a:rPr b="0" lang="en-US" sz="2800" spc="-1" strike="noStrike" u="sng">
                <a:solidFill>
                  <a:srgbClr val="99ccff"/>
                </a:solidFill>
                <a:uFillTx/>
                <a:latin typeface="Century Gothic"/>
                <a:hlinkClick r:id="rId2"/>
              </a:rPr>
              <a:t>survival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Why are the editionised more popular than Scottish papers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Editionised more popular because of pricing and marketing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cottish people want a wider perspective on issues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refer the content - more sport and football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se versions all include “Scottish” in the title? - “Imagined Communities”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Scottish Identity in Press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We have seen identity in Film - how is it represented in the Press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onsider two examples from a range of newspapers - Scottish and non-Scottish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Example from a sporting nature and one from an ordinary individua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Andy Murray in the Press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cottish Press coverage  - “…English will ditch him quicker than you coul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deep fry a mars bar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should he fail…”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“…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If he serves up a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 win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, they’ll consider him a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British as the Union Jack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. A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early exit, they’ll consider him Scottish again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.”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hould he suffer an embarrassing early exit he will suddenly becom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as Scottish as haggis.”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15:55:04Z</dcterms:created>
  <dc:creator>Rebecca  Macdonald</dc:creator>
  <dc:description/>
  <dc:language>en-US</dc:language>
  <cp:lastModifiedBy>Rebecca  Macdonald</cp:lastModifiedBy>
  <dcterms:modified xsi:type="dcterms:W3CDTF">2010-03-12T14:50:49Z</dcterms:modified>
  <cp:revision>22</cp:revision>
  <dc:subject/>
  <dc:title>The Press in Scotland</dc:title>
</cp:coreProperties>
</file>