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540-38FF-4F2A-9D9E-FD73FD6F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7B8-B2B9-4890-B845-748AB4C8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AC7-4447-4571-82B9-1D2C24B7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5AE-D9A7-448F-85EB-48C104FC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E35-4DDD-4FEB-806C-2C0BD7B0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2E8-0F17-47A5-A4E5-B704AA9E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BE5-8D08-49C1-9C86-46123151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CFC-4DC6-42DD-B6D0-5902DFE7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ADB-FC2E-4CD7-B981-A90355B4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14B-B8DF-4BFB-9C77-2106AFCE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A57-36A9-4EF6-93F0-4E072764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C3C-65AB-4647-8B3A-89FCD4BD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2978-8918-49EC-841A-211185C9898B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c/The_Daily_Courant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xbusiness.com/search-results/m/22383652/murdoch-on-the-future-of-newspapers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he Press in Scotlan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becca Macdonald &amp; Claire Harrop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imes coverage - “Every time he lost…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not really a British hero, merely a Scottish lose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type of story repeated across other papers to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o matter what, Scotland will always be proud - loyalty - like Tartan Arm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parisons to Haggis and deep fried mars bars very stereotypic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Picture 4" descr="Untitled2"/>
          <p:cNvPicPr/>
          <p:nvPr/>
        </p:nvPicPr>
        <p:blipFill>
          <a:blip r:embed="rId2"/>
          <a:stretch/>
        </p:blipFill>
        <p:spPr>
          <a:xfrm>
            <a:off x="2666880" y="4648320"/>
            <a:ext cx="3581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ohn Smeaton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dinary worker from Glasgow, actions created great media h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un - “Only in Glasgow would a suicide Bomber ge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 boot between the leg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call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onate 1,000 pint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has been easily met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Daily Mail - “A Ne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avehear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Journal - “An unlike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folk hero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Times - “Smeats, you are the greatest, righ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up there with The Proclaimer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Likened to that of the classic hero stereotype seen in Bravehear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ferences to drinkin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land treasuring its talent whether it’s good or ba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dentity of a region - Glasgow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you think the Scottish Press play a role in creating our identit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the Press is wiped out in the future, will Scottish Identity change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istory of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ise of Press in Scotlan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Press Today and Future Challeng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History of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The earliest forms of what could be described as newspapers can be traced back to Rome in 131 B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1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 century Chinese development of the technique of printing and the invention of pap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Later development of  a movable printing press by Gutenburg in 1455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571680" y="71424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Origins of the British press can be linked back to the 17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1702 the first da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ewspaper appeare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earliest surv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cottish newspaper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Mercu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Caledonius (16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File:The Daily Courant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214280"/>
            <a:ext cx="36432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57120" y="357120"/>
            <a:ext cx="8358120" cy="80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Rise of the Scottish p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econd half of the 19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 papers were now free of taxes, made from wood pulp instead of rags and advances in technological innovations had revolutionised the availability and content of pap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Daily Record was launched in 1895 and after four years had a circulation of one mi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is figure slipped to 700, 000 in the 1950’s, partly due to the dawn of the TV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Press Today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erally same trends as Englis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venue - more emphasis on Ads but also exceptions of Metr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adership now hugely broaden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re Scottish titles and editionis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cline trends year on year - internet challenges - the end or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surviva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are the editionised more popular than Scottish paper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ditionised more popular because of pricing and marketing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eople want a wider perspective on issu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efer the content - more sport and footbal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versions all include “Scottish” in the title? - “Imagined Communities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have seen identity in Film - how is it represented in the Pres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nsider two examples from a range of newspapers - Scottish and non-Scottish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ample from a sporting nature and one from an ordinary individu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ndy Murray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ress coverage  - “…English will ditch him quicker than you cou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eep fry a mars ba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should he fail…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he serves up 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 w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they’ll consider him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itish as the Union Jack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arly exit, they’ll consider him Scottish aga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ould he suffer an embarrassing early exit he will suddenly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s Scottish as haggi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55:04Z</dcterms:created>
  <dc:creator>Rebecca  Macdonald</dc:creator>
  <dc:description/>
  <dc:language>en-US</dc:language>
  <cp:lastModifiedBy>Rebecca  Macdonald</cp:lastModifiedBy>
  <dcterms:modified xsi:type="dcterms:W3CDTF">2010-03-12T14:50:49Z</dcterms:modified>
  <cp:revision>22</cp:revision>
  <dc:subject/>
  <dc:title>The Press in Scotland</dc:title>
</cp:coreProperties>
</file>