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19B-8FCE-42EB-8E71-1DBFFB74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8B8-0397-4C98-BF04-D5F9C6DB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E68-78CE-4257-A66B-BF86C014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23C-4032-45AE-858D-D4D73710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ABC-A2F9-480D-B06F-70BD1CB7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B9D-84A1-472E-8B6E-3A7981BC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017-E05A-4141-B0C5-D03D2D67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F8E-82C5-4EFB-80D0-D45324E8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66B-7832-4516-B236-6D5F2137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545B-6668-4A84-8CF8-7ABCD007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486F-86FB-4F0A-833B-6B71B3F8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E337-9E2C-4BE4-B547-7477A13F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87AF-D424-468C-ACC0-10D0744847F2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e/ec/The_Daily_Courant.pn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oxbusiness.com/search-results/m/22383652/murdoch-on-the-future-of-newspapers.ht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he Press in Scotland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895480" y="4267080"/>
            <a:ext cx="5562720" cy="1524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becca Macdonald &amp; Claire Harrop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Times coverage - “Every time he lost…he w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not really a British hero, merely a Scottish loser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s type of story repeated across other papers to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identity does this give us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o matter what, Scotland will always be proud - loyalty - like Tartan Army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mparisons to Haggis and deep fried mars bars very stereotypic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4" name="Picture 4" descr="Untitled2"/>
          <p:cNvPicPr/>
          <p:nvPr/>
        </p:nvPicPr>
        <p:blipFill>
          <a:blip r:embed="rId2"/>
          <a:stretch/>
        </p:blipFill>
        <p:spPr>
          <a:xfrm>
            <a:off x="2666880" y="4648320"/>
            <a:ext cx="35816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ohn Smeaton in the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rdinary worker from Glasgow, actions created great media hyp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Sun - “Only in Glasgow would a suicide Bomber ge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a boot between the legs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call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onate 1,000 pint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has been easily met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Daily Mail - “A New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Bravehear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Journal - “An unlikel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folk hero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Times - “Smeats, you are the greatest, righ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up there with The Proclaimer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identity does this give us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Likened to that of the classic hero stereotype seen in Braveheart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ferences to drinking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cotland treasuring its talent whether it’s good or ba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dentity of a region - Glasgow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eminar Discussio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o you think the Scottish Press play a role in creating our identity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f the Press is wiped out in the future, will Scottish Identity change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istory of Pres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ise of Press in Scotlan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cottish Press Today and Future Challeng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cottish Identity in Pres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minar Discuss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entury Gothic"/>
              </a:rPr>
              <a:t>History of the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The earliest forms of what could be described as newspapers can be traced back to Rome in 131 BC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1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 century Chinese development of the technique of printing and the invention of pap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Later development of  a movable printing press by Gutenburg in 1455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571680" y="714240"/>
            <a:ext cx="807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Origins of the British press can be linked back to the 17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1702 the first dai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newspaper appeare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e earliest survi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Scottish newspaper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e Mercuri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Caledonius (166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File:The Daily Courant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7840" y="1214280"/>
            <a:ext cx="364320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357120" y="357120"/>
            <a:ext cx="8358120" cy="80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entury Gothic"/>
              </a:rPr>
              <a:t>Rise of the Scottish p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Second half of the 19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century papers were now free of taxes, made from wood pulp instead of rags and advances in technological innovations had revolutionised the availability and content of pap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e Daily Record was launched in 1895 and after four years had a circulation of one mill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is figure slipped to 700, 000 in the 1950’s, partly due to the dawn of the TV 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cottish Press Today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enerally same trends as Englis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venue - more emphasis on Ads but also exceptions of Metr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adership now hugely broadene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ore Scottish titles and editionis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cline trends year on year - internet challenges - the end or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Century Gothic"/>
                <a:hlinkClick r:id="rId2"/>
              </a:rPr>
              <a:t>survival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y are the editionised more popular than Scottish paper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ditionised more popular because of pricing and marketing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cottish people want a wider perspective on issue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efer the content - more sport and football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se versions all include “Scottish” in the title? - “Imagined Communities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cottish Identity in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e have seen identity in Film - how is it represented in the Press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nsider two examples from a range of newspapers - Scottish and non-Scottish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xample from a sporting nature and one from an ordinary individu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Andy Murray in the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cottish Press coverage  - “…English will ditch him quicker than you coul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eep fry a mars bar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should he fail…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f he serves up 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 win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, they’ll consider him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British as the Union Jack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 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arly exit, they’ll consider him Scottish again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hould he suffer an embarrassing early exit he will suddenly becom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as Scottish as haggis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55:04Z</dcterms:created>
  <dc:creator>Rebecca  Macdonald</dc:creator>
  <dc:description/>
  <dc:language>en-US</dc:language>
  <cp:lastModifiedBy>Rebecca  Macdonald</cp:lastModifiedBy>
  <dcterms:modified xsi:type="dcterms:W3CDTF">2010-03-12T14:50:49Z</dcterms:modified>
  <cp:revision>22</cp:revision>
  <dc:subject/>
  <dc:title>The Press in Scotland</dc:title>
</cp:coreProperties>
</file>