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7.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D3768-ED25-48DD-970C-EE3DBBF0C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D093E-FF07-4643-A4AA-F1B66E8D6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BD01A-AF93-450C-887B-B6FB35883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DE076-8E33-4F40-B938-F018CFC63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ECBE6-DD43-4DEB-8000-129C7315C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31F47-A521-46E3-9E29-7DDC8683B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1F6A1-9D0C-4DB3-9B4B-A862A54AE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52D71-2035-43F3-B0F3-CFD931D61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50A39-2DAD-4A88-887E-3C7C75468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42F1E-C1D3-4D6F-AF5C-2354DDEEF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D7C15-DADD-4185-8FBC-785165365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063E-3D9A-45CD-AF1A-8D35B8EC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8E6CF-D780-4403-A3E4-B4851630B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92C5F-69C8-4B52-8ABF-5133EF7B4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3CECC-B49C-4EF4-8B14-BE4CD5847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660AA-8511-427A-9BA7-B7971BC70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2F980-2742-417F-A148-06DEA41BC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4E35D-4DB7-4C2F-84D3-6CD3E6564E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31651-622E-4989-ACA3-72FBB6E9B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C3EEF-4F4F-4C88-A5AD-2A0CCDC7C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3B87C-B668-4638-9EFD-102328E06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33C54-51DD-42B2-8930-C6B81AF0A0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F291-07DA-4187-9033-73F94143C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F4D86-5BE9-4AC0-9CA5-6C5AE2AF4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6195B-A0DA-4FCB-B205-3909E38E8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DA3F4-54ED-4FAE-8899-876536C4C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34EDA-C8A9-4A25-8865-9423A97B5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82FC8-553F-49C6-8EAB-054DAED15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51CE17-71D3-4345-9B35-026C5A6E08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F73F63-CE4A-446F-82E2-8A609DEAD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A56414-26A8-41D6-BB8D-F5A4C8F5BA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AAA9A-175D-4300-8436-02856C61A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4EE64-3A56-4F0A-8BA1-BDE7CDCC1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2FA13-C44E-4E38-9A8D-87E89E40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2BE67C-E329-4A76-B4EA-DB2B7EA00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9B101-C0F3-4094-8B90-868A44D80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D9B4E-EDF8-4FBF-8A75-341F52909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4042B-37E5-44C2-9624-C01582D4B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9D3E8-A227-4C9C-B698-590E84DF4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11173-EB91-4C35-9167-C6E67E241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D9D1F-9F8C-48A3-88FF-987DBF024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F51B85-CAF2-4921-92C3-2321961FEF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8F869D-56A8-49E0-991C-6AC2E98FC4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9947AF-7C80-4DAB-8B6E-3771CDCCC7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882A3-B0FA-49F3-A151-193C9AC1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B92080-8E70-4E46-9C5E-E978AB003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56C67-C6DE-4A36-8A32-2C0A71A5C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7DBA7-9036-47E1-8470-C86E7EB868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F4267-11A2-497D-94C2-A2CF979FC6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7C41E-4DC1-4E71-A65B-1529B98D3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5A6E0-9B54-49F2-A8D5-90C0C798A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B1FC6-D5BD-4BB9-B490-5585BC6C3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CD5AE-EE4E-487C-9239-14A229F53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F426E-B696-4798-B49B-FD33516FA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308B9F-731A-4D7B-BA7B-CCD238CFB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469C-CD9F-45D4-90E7-5F0509811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441E11-B454-4DF8-98CD-93BA80A7BE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54D8A0-49A6-40E7-A6D7-2CB3D94361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D5CFD-2E7D-4633-B405-FC3D9E255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F64C8-5C95-4448-A175-9059433C4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13DA25-BC95-4935-9367-4F145ADCF5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02036-6388-477B-9A80-41F20F8E1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87BC0-2261-43BF-B900-5CFFFA193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067F1-6AFF-447A-ACC0-270720154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573F8-414E-49CC-835C-BE3733C5C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9AC49-AA8E-4FA4-9974-23ACAB065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CD90-46C8-4373-AF2A-A0F27648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0D4CD-9B48-467D-820D-A248E52B39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54402D-ABAB-44EE-8A0B-6BE3BE42D5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7619AE-C7DC-41FE-8197-20B7F670FA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5E8298-CAB7-4D74-A157-599EE73C61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299B6-291A-4B52-808E-43D362A108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846E4-66FA-45E0-922B-1504D5376B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C910D-9181-47D0-A325-C961742C6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380E5D-6D1B-4401-B6B3-D191F23B0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834DA4-2A66-46B1-AA75-A27151979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4611B-7145-412E-B77E-C6D2705E3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2B9E-6891-472C-B5C0-AC5DF7FA4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D6A2F-8AC3-48F7-96B7-7CB2B2254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ACB9E1-CC43-4D6F-92C0-649318AE0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302EC0-1648-4E16-9BAF-877D273F0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1666D9-9F35-4E48-B9B5-0F3F1C0482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63E20A-03AF-4BAA-B1DF-6A411F313D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11FA35-BCF7-4AEA-8381-457CECE44E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6FBFE-A9E6-4B7A-A711-B035CD1000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D373F7-C04D-46DF-A735-88FD967BB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38B3B-6962-44F4-B52F-C7FAFCF35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B09D07-6745-4045-A0B0-E3C35614B1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7C826-61E0-434A-9633-6AF565223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4CF5DB-F530-4012-AA9A-4F786056DD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98F4E-2B6F-4DA7-9AF3-2E6CDBA3C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828D98-95D7-4763-B78E-0B3CD78B8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5A66B-C39A-483C-9304-3AFAC8922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A0D770-83E9-47BB-8803-2D98C9FCB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D0CAED-7FC7-49A1-9903-87C98B0D3D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024C71-6258-464C-B749-7D8C35C114E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389D-F363-44DE-88D2-03F8BD94AFB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B91D-6349-4380-ADA1-19B4E65A7F5E}"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AD77-24E5-478E-8DCD-4883F5882FE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89B7-8EDC-419E-B4EF-6D4106B86DD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1080-7076-4E20-A23A-EF4A7F4FDC7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4D20-E3E3-485E-97D7-28DACB01F56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E6A2-D397-4FE3-AC55-D854DFE2C8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C16A-7F5A-4289-A9C2-F5339AF936EF}"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464646"/>
                </a:solidFill>
                <a:latin typeface="Arial"/>
                <a:ea typeface="Arial"/>
              </a:rPr>
              <a:t>By Katie Morton &amp; Karen Kerr </a:t>
            </a:r>
            <a:endParaRPr b="0" lang="en-US" sz="2700" spc="-1" strike="noStrike">
              <a:solidFill>
                <a:srgbClr val="000000"/>
              </a:solidFill>
              <a:latin typeface="Lucida Sans Unicode"/>
            </a:endParaRPr>
          </a:p>
        </p:txBody>
      </p:sp>
      <p:pic>
        <p:nvPicPr>
          <p:cNvPr id="372" name="Picture 3" descr="rabc_bw.jpg"/>
          <p:cNvPicPr/>
          <p:nvPr/>
        </p:nvPicPr>
        <p:blipFill>
          <a:blip r:embed="rId2"/>
          <a:stretch/>
        </p:blipFill>
        <p:spPr>
          <a:xfrm>
            <a:off x="214200" y="142920"/>
            <a:ext cx="3500640" cy="2100240"/>
          </a:xfrm>
          <a:prstGeom prst="rect">
            <a:avLst/>
          </a:prstGeom>
          <a:ln w="0">
            <a:noFill/>
          </a:ln>
        </p:spPr>
      </p:pic>
      <p:pic>
        <p:nvPicPr>
          <p:cNvPr id="373" name="Picture 2" descr="http://www.lovefilm.com/lovefilm/images/products/2/56952-large.jpg"/>
          <p:cNvPicPr/>
          <p:nvPr/>
        </p:nvPicPr>
        <p:blipFill>
          <a:blip r:embed="rId3"/>
          <a:stretch/>
        </p:blipFill>
        <p:spPr>
          <a:xfrm>
            <a:off x="642960" y="2571840"/>
            <a:ext cx="2071800" cy="2357280"/>
          </a:xfrm>
          <a:prstGeom prst="rect">
            <a:avLst/>
          </a:prstGeom>
          <a:ln w="0">
            <a:noFill/>
          </a:ln>
        </p:spPr>
      </p:pic>
      <p:pic>
        <p:nvPicPr>
          <p:cNvPr id="374" name="Picture 5" descr="still_game.jpg"/>
          <p:cNvPicPr/>
          <p:nvPr/>
        </p:nvPicPr>
        <p:blipFill>
          <a:blip r:embed="rId4"/>
          <a:stretch/>
        </p:blipFill>
        <p:spPr>
          <a:xfrm>
            <a:off x="5000760" y="142920"/>
            <a:ext cx="3214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We want to leave you with some questions ... Do you think that the programmes mentioned &amp; any other Scottish comedy programmes have had a lasting impact on British Television?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Can you think of any similar formats or characters in more modern British programme? </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00040" y="2122200"/>
            <a:ext cx="8229600" cy="40273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Sir Harry Lauder was one of the first people to really take the stage and tour the world with his Scottish songs and jokes. He was famously known as the little tartan comic with the twisted walking stick and playing many different character roles. His career first launched at the </a:t>
            </a:r>
            <a:r>
              <a:rPr b="0" i="1" lang="en-GB" sz="1900" spc="-1" strike="noStrike">
                <a:solidFill>
                  <a:srgbClr val="000000"/>
                </a:solidFill>
                <a:latin typeface="Arial"/>
                <a:ea typeface="Arial"/>
              </a:rPr>
              <a:t>Britannia Panopticon Music Hall </a:t>
            </a:r>
            <a:r>
              <a:rPr b="0" lang="en-GB" sz="1900" spc="-1" strike="noStrike">
                <a:solidFill>
                  <a:srgbClr val="000000"/>
                </a:solidFill>
                <a:latin typeface="Arial"/>
                <a:ea typeface="Arial"/>
              </a:rPr>
              <a:t>in Glasgow. From then on he toured the world for many years and was at one point one of the highest paid entertainers in the world &amp; was the favourite of all. His works are still famous and loved world wide.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u="sng">
                <a:solidFill>
                  <a:srgbClr val="000000"/>
                </a:solidFill>
                <a:uFillTx/>
                <a:latin typeface="Arial"/>
                <a:ea typeface="Arial"/>
              </a:rPr>
              <a:t>City Lights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Was written by </a:t>
            </a:r>
            <a:r>
              <a:rPr b="0" i="1" lang="en-GB" sz="1900" spc="-1" strike="noStrike">
                <a:solidFill>
                  <a:srgbClr val="000000"/>
                </a:solidFill>
                <a:latin typeface="Arial"/>
                <a:ea typeface="Arial"/>
              </a:rPr>
              <a:t>Bob Black </a:t>
            </a:r>
            <a:r>
              <a:rPr b="0" lang="en-GB" sz="1900" spc="-1" strike="noStrike">
                <a:solidFill>
                  <a:srgbClr val="000000"/>
                </a:solidFill>
                <a:latin typeface="Arial"/>
                <a:ea typeface="Arial"/>
              </a:rPr>
              <a:t>&amp; first hit the Scottish screen in 1985 &amp; ran until 1991 starring main the main character Willy Melvin played by </a:t>
            </a:r>
            <a:r>
              <a:rPr b="0" i="1" lang="en-GB" sz="1900" spc="-1" strike="noStrike">
                <a:solidFill>
                  <a:srgbClr val="000000"/>
                </a:solidFill>
                <a:latin typeface="Arial"/>
                <a:ea typeface="Arial"/>
              </a:rPr>
              <a:t>Gerard Kelly</a:t>
            </a:r>
            <a:r>
              <a:rPr b="0" lang="en-GB" sz="1900" spc="-1" strike="noStrike">
                <a:solidFill>
                  <a:srgbClr val="000000"/>
                </a:solidFill>
                <a:latin typeface="Arial"/>
                <a:ea typeface="Arial"/>
              </a:rPr>
              <a:t>.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Harry Lauder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City Lights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6" name="Title 2" descr=""/>
          <p:cNvPicPr/>
          <p:nvPr/>
        </p:nvPicPr>
        <p:blipFill>
          <a:blip r:embed="rId1"/>
          <a:stretch/>
        </p:blipFill>
        <p:spPr>
          <a:xfrm>
            <a:off x="450720" y="268200"/>
            <a:ext cx="8242560" cy="1158840"/>
          </a:xfrm>
          <a:prstGeom prst="rect">
            <a:avLst/>
          </a:prstGeom>
          <a:ln w="0">
            <a:noFill/>
          </a:ln>
        </p:spPr>
      </p:pic>
      <p:pic>
        <p:nvPicPr>
          <p:cNvPr id="377" name="Picture 3" descr="hla.jpg"/>
          <p:cNvPicPr/>
          <p:nvPr/>
        </p:nvPicPr>
        <p:blipFill>
          <a:blip r:embed="rId2"/>
          <a:stretch/>
        </p:blipFill>
        <p:spPr>
          <a:xfrm>
            <a:off x="285840" y="0"/>
            <a:ext cx="150012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_38845633_rab203.jpg"/>
          <p:cNvPicPr/>
          <p:nvPr/>
        </p:nvPicPr>
        <p:blipFill>
          <a:blip r:embed="rId1"/>
          <a:stretch/>
        </p:blipFill>
        <p:spPr>
          <a:xfrm>
            <a:off x="3643200" y="1428840"/>
            <a:ext cx="1933560" cy="1447560"/>
          </a:xfrm>
          <a:prstGeom prst="rect">
            <a:avLst/>
          </a:prstGeom>
          <a:ln w="0">
            <a:noFill/>
          </a:ln>
        </p:spPr>
      </p:pic>
      <p:pic>
        <p:nvPicPr>
          <p:cNvPr id="379" name="Title 2" descr=""/>
          <p:cNvPicPr/>
          <p:nvPr/>
        </p:nvPicPr>
        <p:blipFill>
          <a:blip r:embed="rId2"/>
          <a:stretch/>
        </p:blipFill>
        <p:spPr>
          <a:xfrm>
            <a:off x="450720" y="268200"/>
            <a:ext cx="8242560" cy="1158840"/>
          </a:xfrm>
          <a:prstGeom prst="rect">
            <a:avLst/>
          </a:prstGeom>
          <a:ln w="0">
            <a:noFill/>
          </a:ln>
        </p:spPr>
      </p:pic>
      <p:sp>
        <p:nvSpPr>
          <p:cNvPr id="380" name="TextBox 5"/>
          <p:cNvSpPr/>
          <p:nvPr/>
        </p:nvSpPr>
        <p:spPr>
          <a:xfrm>
            <a:off x="785880" y="3071880"/>
            <a:ext cx="71438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Scottish Comedy program produced in Scotland by BBC Scotland</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tars Gregor Fisher, Elaine C Smith, Tony Roper and Barbara Rafferty.</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show follows the family’s day to day life in working class Govan </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Local Dialect and Glaswegian banter add to the shows comedic valu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First Female Lead Role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Approached previously taboo iss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lcoholism</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Poor Living Conditions</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dultery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Serious health issues – Cancer.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4" descr="scotch_wry.jpg"/>
          <p:cNvPicPr/>
          <p:nvPr/>
        </p:nvPicPr>
        <p:blipFill>
          <a:blip r:embed="rId1"/>
          <a:stretch/>
        </p:blipFill>
        <p:spPr>
          <a:xfrm>
            <a:off x="2643120" y="1285920"/>
            <a:ext cx="3976920" cy="2386080"/>
          </a:xfrm>
          <a:prstGeom prst="rect">
            <a:avLst/>
          </a:prstGeom>
          <a:ln w="0">
            <a:noFill/>
          </a:ln>
        </p:spPr>
      </p:pic>
      <p:pic>
        <p:nvPicPr>
          <p:cNvPr id="384" name="Title 2" descr=""/>
          <p:cNvPicPr/>
          <p:nvPr/>
        </p:nvPicPr>
        <p:blipFill>
          <a:blip r:embed="rId2"/>
          <a:stretch/>
        </p:blipFill>
        <p:spPr>
          <a:xfrm>
            <a:off x="450720" y="268200"/>
            <a:ext cx="8242560" cy="1158840"/>
          </a:xfrm>
          <a:prstGeom prst="rect">
            <a:avLst/>
          </a:prstGeom>
          <a:ln w="0">
            <a:noFill/>
          </a:ln>
        </p:spPr>
      </p:pic>
      <p:sp>
        <p:nvSpPr>
          <p:cNvPr id="385" name="TextBox 10"/>
          <p:cNvSpPr/>
          <p:nvPr/>
        </p:nvSpPr>
        <p:spPr>
          <a:xfrm>
            <a:off x="2928960" y="4143240"/>
            <a:ext cx="7929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cetch Show format.</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ain Actor is Ricky Fulton</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haracters Changed Continually</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Supercop</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lky Broon</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Dirty Dickie Dandruff</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Reverend I.M. Jolly</a:t>
            </a:r>
            <a:endParaRPr b="0" lang="en-US" sz="1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ontained Regional Glaswegian Humour</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Focussed on Football, Sectarianism, Areas in Glasgow.</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Issues approached with a strong comedic valu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Propelled Careers of Gregor Fisher, Gerard Kelly and Tony Roper.</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lip</a:t>
            </a:r>
            <a:endParaRPr b="0" lang="en-US" sz="25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v Debut on 1</a:t>
            </a:r>
            <a:r>
              <a:rPr b="0" lang="en-GB" sz="2500" spc="-1" strike="noStrike" baseline="30000">
                <a:solidFill>
                  <a:srgbClr val="000000"/>
                </a:solidFill>
                <a:latin typeface="Lucida Sans Unicode"/>
              </a:rPr>
              <a:t>st</a:t>
            </a:r>
            <a:r>
              <a:rPr b="0" lang="en-GB" sz="2500" spc="-1" strike="noStrike">
                <a:solidFill>
                  <a:srgbClr val="000000"/>
                </a:solidFill>
                <a:latin typeface="Lucida Sans Unicode"/>
              </a:rPr>
              <a:t> September 2002</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Was originally a Stage Play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Main Actors Ford Kiernan &amp; Greg Hemphill.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Follows the two pensioners and their friends on their daily lives in Glasgow and shows the issues facing older people toda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lip</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ring to the fifth series' finale, the Daily Record heralded for </a:t>
            </a:r>
            <a:r>
              <a:rPr b="0" i="1" lang="en-GB" sz="2700" spc="-1" strike="noStrike">
                <a:solidFill>
                  <a:srgbClr val="000000"/>
                </a:solidFill>
                <a:latin typeface="Lucida Sans Unicode"/>
              </a:rPr>
              <a:t>Still Game</a:t>
            </a:r>
            <a:r>
              <a:rPr b="0" lang="en-GB" sz="2700" spc="-1" strike="noStrike">
                <a:solidFill>
                  <a:srgbClr val="000000"/>
                </a:solidFill>
                <a:latin typeface="Lucida Sans Unicode"/>
              </a:rPr>
              <a:t> to be added to the ranks of the "greatest sitcoms ever". And said that it was " a perfect mix of empathetic friendship, laugh-out-loud gags, real feeling in the acting and genuine warmth and chemistry between th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y did People find this funn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main reasons would be that Scottish people are not afraid to take the piss out of themselves its part of the Scottish banter that even still exists toda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Scottish comedy is relatable to the viewers. As they are set in well known areas in Scotland, people have either been there or have been raised in similar area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Characters </a:t>
            </a:r>
            <a:r>
              <a:rPr b="0" i="1" lang="en-GB" sz="1600" spc="-1" strike="noStrike">
                <a:solidFill>
                  <a:srgbClr val="000000"/>
                </a:solidFill>
                <a:latin typeface="Arial"/>
                <a:ea typeface="Arial"/>
              </a:rPr>
              <a:t>such as Rab C – is your typical drunk man but before this would have been the usual Scottish male, drunk &amp; stupid knowing nothing other than his close by surrounding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Rab c despite being full of the drink most of the time – is philosophical about life and knows more than just the area he lives in.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t is also because people can relate to the Character of Rab – everyone most probably knows someone who is very similar to Rab whether it be there dad, uncle, or neighbour. It is now a almost a joke &amp; way of life that has creeped in to Scottish culture – when you see some drunk man wittering away to himself your 1</a:t>
            </a:r>
            <a:r>
              <a:rPr b="0" i="1" lang="en-GB" sz="1600" spc="-1" strike="noStrike" baseline="30000">
                <a:solidFill>
                  <a:srgbClr val="000000"/>
                </a:solidFill>
                <a:latin typeface="Arial"/>
                <a:ea typeface="Arial"/>
              </a:rPr>
              <a:t>st</a:t>
            </a:r>
            <a:r>
              <a:rPr b="0" i="1" lang="en-GB" sz="1600" spc="-1" strike="noStrike">
                <a:solidFill>
                  <a:srgbClr val="000000"/>
                </a:solidFill>
                <a:latin typeface="Arial"/>
                <a:ea typeface="Arial"/>
              </a:rPr>
              <a:t> thought will probably be that of Rab C. Or how many times have you seen an angry wife dragging him out of the pub on a Friday night!!</a:t>
            </a:r>
            <a:endParaRPr b="0" lang="en-US" sz="1600" spc="-1" strike="noStrike">
              <a:solidFill>
                <a:srgbClr val="000000"/>
              </a:solidFill>
              <a:latin typeface="Lucida Sans Unicode"/>
            </a:endParaRPr>
          </a:p>
        </p:txBody>
      </p:sp>
      <p:pic>
        <p:nvPicPr>
          <p:cNvPr id="3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2:59:01Z</dcterms:created>
  <dc:creator>Information Services</dc:creator>
  <dc:description/>
  <dc:language>en-US</dc:language>
  <cp:lastModifiedBy>Information Services</cp:lastModifiedBy>
  <dcterms:modified xsi:type="dcterms:W3CDTF">2010-03-26T15:43:10Z</dcterms:modified>
  <cp:revision>17</cp:revision>
  <dc:subject/>
  <dc:title>Scottish Comedy </dc:title>
</cp:coreProperties>
</file>