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61679-F912-4E20-8338-82F2E0988C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9F7D0-D594-4E12-83DC-8CDF51E6FB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AD1F5-BFAC-499B-866A-ED0FBFBAE6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219E2-0F56-4C6A-AE09-8BB54FA367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151B4-BE1C-4115-B7F0-C81A91959F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15D64-9F5B-4463-9700-264E3C2BBA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C90F4-FE08-4BC3-84DD-519F21D110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935BD-2411-419F-BC26-561394AAEC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B8DE0-E101-472B-A20D-6DE18BBA4E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57AF9-0EDF-48E7-B3EB-252491B763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D8A2E-F58F-4197-A827-9060070DAE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3C41-962E-42EA-911E-A94D1603F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2DD4-377D-4E2E-A0A7-F1A8CB133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923D-BD3E-4904-A1A3-E9A0F5705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A8D4-82C4-4F39-83D7-DB94E41CD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D3BBB5-3251-4C98-BE69-836D23191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10071E-4D84-4D4B-9623-B3C0364BD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A23D78-6622-448D-8A7F-086E81C3C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ADE7F0-1E35-4855-865B-BB213F501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606365-7D0E-4ECD-A5F1-0F16B1686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481443-2F5E-4B0F-9106-8EEB04FB7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ED30EE-53B5-4376-892D-406B0C23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8905-3B7C-4603-AB57-A8FE15B02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7F05FF-BB69-4D43-A552-C4CAC255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3E64E9-E3F8-4854-8FA6-103C5FDF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988742-E0A2-4E2D-8673-B0E6BEAC4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B21883-B350-4ADC-8480-AC08A2C5B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CA01EE-5D22-47B6-8BD0-5D12CFA6D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BF520-9687-4182-8732-52FA44A0D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17D2E-7716-4953-B474-4653FE0B1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464DE-B7B1-45DC-9A9B-979C9952B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5C761-09A4-4847-8166-5A8499A78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5E1B0-6280-40CE-B1CF-E970D36D2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047F-30DD-4058-81C6-EBA65B16C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EE734-07E1-47BD-A981-35C14DD22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84831-0D41-4B5C-95C4-521AD0E8F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27B7C-2F0E-4255-90F6-2459F6A8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BA8FD-11BB-4E1C-AC72-817046D4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CC7A3-143F-4214-99A1-CB8827EF9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FEFB4-1FAA-4357-A6AC-05D95EB74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D95EE-020E-47DF-8135-6EEB65449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7439B-7743-44C0-A181-4A1BB4795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E80F3-FD4D-4912-962C-3307C4A25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C4340-F6E7-4ADB-B90C-EEF394749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FD05-8983-4D28-941D-2BA0717AC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759CA-452E-4B6F-8EC3-DE0F03FB4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0B0AF-D61B-44EA-8FA9-11B09D2FE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36D47-3AA9-4153-ABAA-5A21C8460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F4AF7-2C0D-4450-A019-1FFE3D368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ED305-5A03-46BD-9AEE-9E98376D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EA623-570D-430F-918C-F5728C592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71168-B213-4E72-B1B3-72A5FD614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20138-B390-423C-9D6F-AC1E5362C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1F31C-EEFB-4E89-94C3-7288B69D4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648C-0BE5-4750-9727-1A15DF089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34F2-7472-471B-B96A-22E2C0465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98CE-41CA-41EB-BB1C-F6E0D5AFC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8A80-6BC4-49BD-A618-191123E8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3153-6A23-42E3-8F40-1DAC282A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1FD4A-FB1A-4262-92CD-3885BC7A1A0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1" descr=""/>
          <p:cNvPicPr/>
          <p:nvPr/>
        </p:nvPicPr>
        <p:blipFill>
          <a:blip r:embed="rId2"/>
          <a:stretch/>
        </p:blipFill>
        <p:spPr>
          <a:xfrm>
            <a:off x="7812000" y="189000"/>
            <a:ext cx="1114560" cy="112392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2" descr=""/>
          <p:cNvPicPr/>
          <p:nvPr/>
        </p:nvPicPr>
        <p:blipFill>
          <a:blip r:embed="rId3"/>
          <a:stretch/>
        </p:blipFill>
        <p:spPr>
          <a:xfrm>
            <a:off x="179280" y="5516640"/>
            <a:ext cx="1114560" cy="1123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2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f0f0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c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4628D-A326-4279-89E7-14DD196649E0}" type="slidenum">
              <a:rPr b="0" lang="en-GB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61458-0ABC-442A-A696-07F49064A3E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2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48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f0f0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c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70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f0f0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c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BED88-40C4-49AA-87F6-C9084E0EAF7A}" type="slidenum">
              <a:rPr b="0" lang="en-GB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JidoI0MrTQI&amp;feature=related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video.stv.tv/bc/programmes-top30-20081111-francie-and-josie/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youtube.com/watch?v=0Cpb8rqYFd8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rUpBTVilhzY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SCOTTISH TV COMED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y Michael C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rlotte Crag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amp; Janine Cro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OLIN GILBE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oined the BBC as assistant floor manager, 19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 programme in Scotland- Naked Ra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ved on to start The Comedy Un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2" descr="http://www.comedyunit.co.uk/images/colinsmall.jpg"/>
          <p:cNvPicPr/>
          <p:nvPr/>
        </p:nvPicPr>
        <p:blipFill>
          <a:blip r:embed="rId1"/>
          <a:stretch/>
        </p:blipFill>
        <p:spPr>
          <a:xfrm>
            <a:off x="7500960" y="4403880"/>
            <a:ext cx="1643040" cy="24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ITY LIGH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ttish TV sitcom made by BBC Scot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rn-day l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6" descr=""/>
          <p:cNvPicPr/>
          <p:nvPr/>
        </p:nvPicPr>
        <p:blipFill>
          <a:blip r:embed="rId1"/>
          <a:stretch/>
        </p:blipFill>
        <p:spPr>
          <a:xfrm>
            <a:off x="7505640" y="4038480"/>
            <a:ext cx="16383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RAB C NESBIT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an in 19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aswegian dial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successful comedy to go from Scotland to Eng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5" descr="http://newsimg.bbc.co.uk/media/images/44953000/jpg/_44953645_nesbitt282.jpg"/>
          <p:cNvPicPr/>
          <p:nvPr/>
        </p:nvPicPr>
        <p:blipFill>
          <a:blip r:embed="rId1"/>
          <a:stretch/>
        </p:blipFill>
        <p:spPr>
          <a:xfrm>
            <a:off x="7500960" y="4808520"/>
            <a:ext cx="164304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HEWIN’ THE F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win’ the Fat is a Scottish comedy useful for an illustration of the ‘ned’ phenomenon (aimless cropped-haired council- scheme male hooligans), which itself goes a long way towards describing modern Scottish culture. “ (Gardiner, 2005: 180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ed as a Radio series on BBC radio Scotland in 1997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d many seri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gmany special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5" descr="http://www.comedyunit.co.uk/images/chewinthefat_wallpaper01.jpg"/>
          <p:cNvPicPr/>
          <p:nvPr/>
        </p:nvPicPr>
        <p:blipFill>
          <a:blip r:embed="rId1"/>
          <a:stretch/>
        </p:blipFill>
        <p:spPr>
          <a:xfrm>
            <a:off x="6572160" y="4959360"/>
            <a:ext cx="2571840" cy="18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TILL GAM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ly part of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hewin’ the Fa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etch show until 2002 when it became a sitcom in its own righ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how focuses on two Glaswegian pensioners, Jack Jarvis and Victor McDade and live in the fictional Craig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Broadcast on BBC1 Scotland, with later screenings being shown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and on BBC2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7" descr="http://scribble.scran.ac.uk/grahamt/files/19/1237/bbc1.jpg"/>
          <p:cNvPicPr/>
          <p:nvPr/>
        </p:nvPicPr>
        <p:blipFill>
          <a:blip r:embed="rId1"/>
          <a:stretch/>
        </p:blipFill>
        <p:spPr>
          <a:xfrm>
            <a:off x="6824520" y="5072040"/>
            <a:ext cx="231948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TILL GAM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yed by actors approximately 30 years younger than their charac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quite surreal but adds greater humour to the program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be suggested that “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ast of the Summer Wi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1973-)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ne Foot in the Gra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1990-2000)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aiting for Go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1990-4) preceded it by several years i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ling humourously with the problem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old age” (Ian Mowatt, 2008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BURNISTOU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in fictional Scottish town, Burnistou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ten and performed by Robert Florence and Iain Connell and produced by The Comedy Unit for BBC Scot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episode of the series was Broadcast on 1st March 2010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Burnistoun. Image shows from L to R: Iain Connell, Robert Florence. Image credit: The Comedy Unit."/>
          <p:cNvPicPr/>
          <p:nvPr/>
        </p:nvPicPr>
        <p:blipFill>
          <a:blip r:embed="rId1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LIMMY’S SHO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ten, animated and directed by Brian Limo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d as a result of the success of Limmy’s live performances at the Fringe and Glasgow International Comedy Festi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eries aired on 11 January 2010 for 6 episod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2" descr="http://www.theskinny.co.uk/media/images/5382/5382_medium.jpg"/>
          <p:cNvPicPr/>
          <p:nvPr/>
        </p:nvPicPr>
        <p:blipFill>
          <a:blip r:embed="rId1"/>
          <a:stretch/>
        </p:blipFill>
        <p:spPr>
          <a:xfrm>
            <a:off x="7907400" y="5000760"/>
            <a:ext cx="123660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CENT SCOTTISH COMED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my’s Sh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rnist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they got the same appeal as previous comedies, and what do they do for our national ident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IR HARRY LAUD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rn 1870, died 19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bably most successful in terms of overseas fame, along with Billy Conno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ariety theatres, pa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 very famous so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nighthood in 1919 as a result of his war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6" descr="Harry_Laud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451640" y="4929120"/>
            <a:ext cx="169236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IR HARRY LAUDER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cottish ident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cotland's image in the world today owes much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aricature presented by Harry Lauder's stag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formances, particularly in England, Canada and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2 tours in the United States. His extravagant highl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ress, glengarry at a jaunty angle, pawky humour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"ultra-thrifty" attitudes and sentimental song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deared him to many audienc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rampantscotland,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RIKKI FULT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edian &amp; actor, born in Dennistoun in 1924, died in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rly career as a serious broadcaster for BBC, performed in Theat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pular in panto from 1950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rancie &amp; Josie, Scotch &amp; Wry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ales of Para Han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4" descr="5E019759-B716-1DAF-EDD6F6ED472CEA4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04000" y="4518000"/>
            <a:ext cx="234000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RIKKI FULTON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tired from stage in mid-1990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ery popular in Scotland, but not so successful else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BC Scotland Controller John McCormic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was a legend for people across the whol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cotch &amp; Wry was watched by half of this population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ose figures will never be exceeded and it was Rikk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made an appointment with on Hogmanay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6"/>
          <p:cNvSpPr/>
          <p:nvPr/>
        </p:nvSpPr>
        <p:spPr>
          <a:xfrm>
            <a:off x="1187280" y="3716280"/>
            <a:ext cx="6264360" cy="22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COTCH &amp; W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ditional sketch show on BB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gan in 1978- ran for 14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m Scottish viewers at its pe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Reverend I. M. Jo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wn once in England (198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king class, references to Scottish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5" descr="51RX40WA7RL"/>
          <p:cNvPicPr/>
          <p:nvPr/>
        </p:nvPicPr>
        <p:blipFill>
          <a:blip r:embed="rId1"/>
          <a:stretch/>
        </p:blipFill>
        <p:spPr>
          <a:xfrm>
            <a:off x="7286760" y="1714680"/>
            <a:ext cx="1477800" cy="20872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7" descr="reverend_im_jolly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308720" y="5022720"/>
            <a:ext cx="1835280" cy="18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COTTISH TV COMED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set in Central or West of Scotla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ttish dialect can be a challenge to understand for people outside of Scotland and even outside the region by so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tuation comedies are expensive to produce if they are only watched by a small proportion of Scottish viewers. However, there has been 3 very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ccessful series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ity Ligh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1987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81)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ab C. Nesbit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1990-present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ill Ga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2002-200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COTS VS ENGLISH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programme made in Scotland can compare to the best English comed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nly Fools and Hor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only sitcom ever to have attracted half of the British population to watch its final episod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ttish comedy is almost invariably working class. Whereas many English programmes including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icar of Dible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eeping up Appearanc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set in exclusively middle-class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round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2" descr="http://i.dailymail.co.uk/i/pix/2006/07/dibleyL070706_228x24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86800" y="5394240"/>
            <a:ext cx="135720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COTS VS AMERICA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contrast is much bigger business than Scottish and English Come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ends, Frasier and The Simpsons are examples of hugely successful American TV comed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famous actors and quite common to use guest appeara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is completely different- most ar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lusively middle-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5T18:04:02Z</dcterms:created>
  <dc:creator>Janine Croft</dc:creator>
  <dc:description/>
  <dc:language>en-US</dc:language>
  <cp:lastModifiedBy>Charlotte Cragg</cp:lastModifiedBy>
  <dcterms:modified xsi:type="dcterms:W3CDTF">2010-04-01T17:47:45Z</dcterms:modified>
  <cp:revision>30</cp:revision>
  <dc:subject/>
  <dc:title>Scottish TV Comedy</dc:title>
</cp:coreProperties>
</file>