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365E-F1A1-459D-B7CB-0369FE0AAB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C95C-724E-4756-8225-20C191EC8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7FC9-72B6-4D27-BF6E-1828B98EF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DBB7-BD53-4117-AF85-682C0A1CB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076F-90A2-4D3F-B9AF-413D4B2A2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CF2B-7761-407F-91E4-14EFD43BC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58BA-66B3-45F6-BA22-DCFC385F7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A02-041D-4CA8-9A59-0F4BAA0AF6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7ABA-9BE0-4135-8554-09FD65F9BF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832E-E288-4EC2-8EA5-09D76F59A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797-D874-431E-B42B-8CA0CD68B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E79-6E14-47A9-BD20-2FF23938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B59-EABF-428A-9E66-20E9CB20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14A5-3D48-40BF-8A99-346E446A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55B-A80B-4C8E-898B-3EC19B65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C2BAA-D877-475A-8C05-11A475C6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0957-9CB1-4BB8-94B4-B95E99A2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5788F-0386-4165-8714-1A83151C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9E1ED-DC8D-4AC2-8FA8-07902CC9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5041A-F60C-4B1B-BF59-9FE02820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DB8C9-3C1E-4C22-949B-98E2E58E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3C968-6ABD-4C16-A75A-31D5BDF0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6FC-93E5-441E-87E1-52C99F69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684C8-78AD-4729-87D4-3683EB56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0C46B-D993-443B-99AE-D097F1B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47282-6921-48C1-A815-14810F2F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48922-83B1-4723-B645-F1620685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59135-C755-44E2-8D80-DB7C2BC9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3BBF-3A5A-422A-AA4D-80D50927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6F38-5DB8-48C0-B7D8-62BBCF9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5D95-3C84-4D4F-9241-F7DF4E9C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975D-52C4-46BD-BBC4-740DA2B2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8F38-F115-4DBA-A5C5-FFDC918A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9BC-E43D-4DFC-BCA3-B867ADA5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CA72-1472-4895-8056-D1A6D87E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E992-3552-4C73-ADBB-DBBB7AA7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A574-F4D5-497D-AC5A-0262453D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E4A1-E6EA-4BB9-B551-1C056BE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4C46-E648-4B14-AF36-07CBDFB2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13E3-0F8B-44B6-8C98-27D353D7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1FCE-4241-44E2-A54F-FAFF40EF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D351-25E2-4C95-A8B0-624EBB31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E5F0B-2972-43F4-A55D-1477A6BA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5B76-7868-4001-88B6-F7C91D18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1C9-FFB7-41D6-B2F1-411B2B56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50095-15CF-4BD2-AD18-9F2ED11A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43D3-9882-4D7E-B027-6BD12923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F2859-7AA8-4ED7-B790-987E7940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EC90B-3DBC-4B28-B6E1-A28AFC67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232E-D28D-4DDA-84E1-E527084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F089-6D83-4B5F-A66B-AC93807D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6B75E-9D5F-4F16-8149-C8A24A94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69893-FF72-442E-A96A-B77477E6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9FBD-0452-4D30-8EFE-D3712A77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5B5-7C33-4C6A-8F4E-7AF3310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CC4-F380-4FBC-9187-EE85FA25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2BC-909E-4883-B39F-77CB8275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836-BDAF-4651-9305-EA698616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B11-9A5E-406E-84A1-D755056C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C82F-895E-4404-B9F6-94CB3BF58B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14560" cy="11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179280" y="5516640"/>
            <a:ext cx="1114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9143-1912-4F3E-A30D-6FB10B8862D4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BC7E-383C-46CC-9A76-BB261DDDEE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6975-2813-4790-82E4-C05195E093F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doI0MrTQI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stv.tv/bc/programmes-top30-20081111-francie-and-jos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0Cpb8rqYFd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UpBTVilhzY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Michael C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lotte C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Janine 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LIN GILB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 the BBC as assistant floor manager,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rogramme in Scotland- Naked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d on to start The Comed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www.comedyunit.co.uk/images/colinsmall.jpg"/>
          <p:cNvPicPr/>
          <p:nvPr/>
        </p:nvPicPr>
        <p:blipFill>
          <a:blip r:embed="rId1"/>
          <a:stretch/>
        </p:blipFill>
        <p:spPr>
          <a:xfrm>
            <a:off x="7500960" y="4403880"/>
            <a:ext cx="16430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TY L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TV sitcom made by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-da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7505640" y="4038480"/>
            <a:ext cx="1638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B C NESBIT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wegian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uccessful comedy to go from Scotland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http://newsimg.bbc.co.uk/media/images/44953000/jpg/_44953645_nesbitt282.jpg"/>
          <p:cNvPicPr/>
          <p:nvPr/>
        </p:nvPicPr>
        <p:blipFill>
          <a:blip r:embed="rId1"/>
          <a:stretch/>
        </p:blipFill>
        <p:spPr>
          <a:xfrm>
            <a:off x="7500960" y="4808520"/>
            <a:ext cx="1643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EWIN’ THE F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’ the Fat is a Scottish comedy useful for an illustration of the ‘ned’ phenomenon (aimless cropped-haired council- scheme male hooligans), which itself goes a long way towards describing modern Scottish culture. “ (Gardiner, 2005: 18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as a Radio series on BBC radio Scotland in 199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many seri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many speci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http://www.comedyunit.co.uk/images/chewinthefat_wallpaper01.jpg"/>
          <p:cNvPicPr/>
          <p:nvPr/>
        </p:nvPicPr>
        <p:blipFill>
          <a:blip r:embed="rId1"/>
          <a:stretch/>
        </p:blipFill>
        <p:spPr>
          <a:xfrm>
            <a:off x="6572160" y="4959360"/>
            <a:ext cx="25718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win’ the F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show until 2002 when it became a sitcom in its own r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ow focuses on two Glaswegian pensioners, Jack Jarvis and Victor McDade and live in the fictional Crai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Broadcast on BBC1 Scotland, with later screenings being show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on BBC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http://scribble.scran.ac.uk/grahamt/files/19/1237/bbc1.jpg"/>
          <p:cNvPicPr/>
          <p:nvPr/>
        </p:nvPicPr>
        <p:blipFill>
          <a:blip r:embed="rId1"/>
          <a:stretch/>
        </p:blipFill>
        <p:spPr>
          <a:xfrm>
            <a:off x="6824520" y="5072040"/>
            <a:ext cx="231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by actors approximately 30 years younger than their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quite surreal but adds greater humour to the program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suggested that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of the Summer W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73-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Foot in the Gr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2000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ing for 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4) preceded it by several year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humourously with the proble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old age” (Ian Mowatt, 2008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RNISTO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fictional Scottish town, Burnisto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nd performed by Robert Florence and Iain Connell and produced by The Comedy Unit for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pisode of the series was Broadcast on 1st March 20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Burnistoun. Image shows from L to R: Iain Connell, Robert Florence. Image credit: The Comedy Unit.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MY’S S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, animated and directed by Brian Lim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s a result of the success of Limmy’s live performances at the Fringe and Glasgow International Comedy Fes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ries aired on 11 January 2010 for 6 epis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www.theskinny.co.uk/media/images/5382/5382_medium.jpg"/>
          <p:cNvPicPr/>
          <p:nvPr/>
        </p:nvPicPr>
        <p:blipFill>
          <a:blip r:embed="rId1"/>
          <a:stretch/>
        </p:blipFill>
        <p:spPr>
          <a:xfrm>
            <a:off x="7907400" y="5000760"/>
            <a:ext cx="1236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ENT SCOTTISH COME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my’s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ist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y got the same appeal as previous comedies, and what do they do for our national id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n 1870, died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ly most successful in terms of overseas fame, along with Billy Conn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ety theatres, pa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very famous s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ighthood in 1919 as a result of his w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Harry_Lau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929120"/>
            <a:ext cx="1692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land's image in the world today owes muc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icature presented by Harry Lauder's st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ances, particularly in England, Canada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 tours in the United States. His extravagant high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, glengarry at a jaunty angle, pawky humou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ultra-thrifty" attitudes and sentimental so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eared him to many audi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ampantscotland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dian &amp; actor, born in Dennistoun in 1924, died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career as a serious broadcaster for BBC, performed in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r in panto from 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ancie &amp; Josie, Scotch &amp; W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ales of Para H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5E019759-B716-1DAF-EDD6F6ED472CEA4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1800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ired from stage in mid-199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popular in Scotland, but not so successful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C Scotland Controller John McCormi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 legend for people across the whol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ch &amp; Wry was watched by half of this popul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figures will never be exceeded and it was Rik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an appointment with on Hogmana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187280" y="3716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CH &amp; W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sketch show on B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an in 1978- ran for 1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m Scottish viewers at its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verend I. M. J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n once in England (19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ing class, references to Scot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51RX40WA7RL"/>
          <p:cNvPicPr/>
          <p:nvPr/>
        </p:nvPicPr>
        <p:blipFill>
          <a:blip r:embed="rId1"/>
          <a:stretch/>
        </p:blipFill>
        <p:spPr>
          <a:xfrm>
            <a:off x="7286760" y="1714680"/>
            <a:ext cx="1477800" cy="208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reverend_im_jol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et in Central or West of Scot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dialect can be a challenge to understand for people outside of Scotland and even outside the region by s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 comedies are expensive to produce if they are only watched by a small proportion of Scottish viewers. However, there has been 3 very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serie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87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b C. Nesbi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presen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ill G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02-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ENGLIS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gramme made in Scotland can compare to the best English come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Fools and Ho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nly sitcom ever to have attracted half of the British population to watch its final epis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omedy is almost invariably working class. Whereas many English programmes including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car of Dibl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eping up Appeara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t in exclusively middle-class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://i.dailymail.co.uk/i/pix/2006/07/dibleyL070706_228x2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86800" y="5394240"/>
            <a:ext cx="13572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AMERIC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 is much bigger business than Scottish and English Co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, Frasier and The Simpsons are examples of hugely successful American TV comed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amous actors and quite common to use guest appear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is completely different- most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ly middl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04:02Z</dcterms:created>
  <dc:creator>Janine Croft</dc:creator>
  <dc:description/>
  <dc:language>en-US</dc:language>
  <cp:lastModifiedBy>Charlotte Cragg</cp:lastModifiedBy>
  <dcterms:modified xsi:type="dcterms:W3CDTF">2010-04-01T17:47:45Z</dcterms:modified>
  <cp:revision>30</cp:revision>
  <dc:subject/>
  <dc:title>Scottish TV Comedy</dc:title>
</cp:coreProperties>
</file>