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9C92-8109-4890-8A9C-C0C7F280F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8C71-D045-48A8-9A2C-51A609687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99B9-378A-4E39-B0F8-53601A081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F77B-6BFD-46A1-84BE-7256A2E7D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0149-21EF-4B1F-A8D6-2E0854A4C6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E621-1984-4089-BD52-94D21F0CF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865F-4254-490B-B095-3A29C6DA57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32CB-AA1F-45E1-8359-072A2ABBF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4DD6-E8C2-4108-BBF3-612CDD7E9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6DF1-CE5C-46B2-A8D4-019253266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5563-A1F3-4FF4-833B-266701175E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4EC-7292-4528-8482-4774D2BD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4AF-2F27-4C28-A667-EB50FA48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B48-D5F4-4878-B172-BC42D8E7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A52-79D7-4DA9-BEAD-819FB611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62ADF-B53C-4559-A7A8-E1FB4098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99035-354D-4533-B089-53A21061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AD215-446E-4056-9F31-C339D54F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7645F-A782-4205-BF12-6B83BBD0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3D93F-6493-44FB-A9CF-3CE12200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477B8-AC35-4D0F-B34B-9D69E0EB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117EA-08C7-4310-9312-58CC815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46C-938E-476C-960A-A51D9AEA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97432-8ECB-48C0-BE35-DABBDD98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5BFAE-BF1B-4C14-929D-D0E359C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1513-6E08-4952-80CE-EEB5C412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1D006-2258-4BC0-9312-15E9D10E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E80D1-1F0F-4AE6-8B57-11901B47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E4FA8-599A-4B07-967F-893A1CA4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A93F-A2AF-40B5-912B-9E346AC2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F2B9E-446E-43CE-A6B8-9A343E00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0F2F-D5A1-424B-B2CD-12422DD6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ECBE-86C8-4168-BB04-F05E312D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1C6-F15F-4B76-B473-3464268B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B5D9-A9FD-4067-94BB-536DA963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B8B4-91A0-4395-BF9D-5E133578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95DD-2575-4AC4-96CF-3CECF0C5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9D5C-5017-4F80-9028-C4E25951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B421-4F86-4A53-A87A-B927B79D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D2E5D-C9F6-4241-B4C9-F3AFBEE4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FC32-CD76-4684-997B-820ECF93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C3D6E-D15F-4A88-98F4-0D61AD9C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CD8A-C762-40CF-969C-C1094E09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FE9F8-B5B0-4B39-9F23-E4D54A73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125-C7EF-43F4-8F60-F6AB90AF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E08B-9FF3-4B12-AE2C-3252DC6F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685A-5BD6-4E1A-915B-F7821033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E33E-9606-473F-8691-AB96AC8E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C224A-D7C7-4F45-8F17-99A3837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9293-2586-465E-98D5-CC2A0459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A67B2-1A97-4B07-B850-C5E728D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86FD5-DB4E-452C-98D5-A94630C1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74CE8-96B8-4158-8987-CCC80C8C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5245-8F48-41FA-B266-DCDE45AE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118-D61B-4877-8C41-F0058677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244-1751-43D0-BD97-5B686E9C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B74-60A8-4068-BA6C-B924D41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F25-63C9-4A30-BFD9-0CB611AD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D10-9FEC-488A-8413-98698630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3E58-B1A5-4F71-93C0-77347071EB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14560" cy="11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179280" y="5516640"/>
            <a:ext cx="1114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1035-36B3-4EBE-A205-330CA162B148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318A-FE36-4E45-BC5F-F5677373B6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EB61-1370-4942-99E8-AF4B2B548866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doI0MrTQI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.stv.tv/bc/programmes-top30-20081111-francie-and-josi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0Cpb8rqYFd8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UpBTVilhzY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Michael C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lotte C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Janine 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LIN GILB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 the BBC as assistant floor manager,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rogramme in Scotland- Naked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d on to start The Comed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www.comedyunit.co.uk/images/colinsmall.jpg"/>
          <p:cNvPicPr/>
          <p:nvPr/>
        </p:nvPicPr>
        <p:blipFill>
          <a:blip r:embed="rId1"/>
          <a:stretch/>
        </p:blipFill>
        <p:spPr>
          <a:xfrm>
            <a:off x="7500960" y="4403880"/>
            <a:ext cx="16430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TY L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TV sitcom made by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-da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7505640" y="4038480"/>
            <a:ext cx="1638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B C NESBIT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wegian dia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uccessful comedy to go from Scotland to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http://newsimg.bbc.co.uk/media/images/44953000/jpg/_44953645_nesbitt282.jpg"/>
          <p:cNvPicPr/>
          <p:nvPr/>
        </p:nvPicPr>
        <p:blipFill>
          <a:blip r:embed="rId1"/>
          <a:stretch/>
        </p:blipFill>
        <p:spPr>
          <a:xfrm>
            <a:off x="7500960" y="4808520"/>
            <a:ext cx="16430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EWIN’ THE F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’ the Fat is a Scottish comedy useful for an illustration of the ‘ned’ phenomenon (aimless cropped-haired council- scheme male hooligans), which itself goes a long way towards describing modern Scottish culture. “ (Gardiner, 2005: 18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as a Radio series on BBC radio Scotland in 199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many seri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many speci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http://www.comedyunit.co.uk/images/chewinthefat_wallpaper01.jpg"/>
          <p:cNvPicPr/>
          <p:nvPr/>
        </p:nvPicPr>
        <p:blipFill>
          <a:blip r:embed="rId1"/>
          <a:stretch/>
        </p:blipFill>
        <p:spPr>
          <a:xfrm>
            <a:off x="6572160" y="4959360"/>
            <a:ext cx="25718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win’ the F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show until 2002 when it became a sitcom in its own r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ow focuses on two Glaswegian pensioners, Jack Jarvis and Victor McDade and live in the fictional Crai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Broadcast on BBC1 Scotland, with later screenings being show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on BBC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http://scribble.scran.ac.uk/grahamt/files/19/1237/bbc1.jpg"/>
          <p:cNvPicPr/>
          <p:nvPr/>
        </p:nvPicPr>
        <p:blipFill>
          <a:blip r:embed="rId1"/>
          <a:stretch/>
        </p:blipFill>
        <p:spPr>
          <a:xfrm>
            <a:off x="6824520" y="5072040"/>
            <a:ext cx="2319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d by actors approximately 30 years younger than their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quite surreal but adds greater humour to the program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suggested that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 of the Summer W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73-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Foot in the Gr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2000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iting for 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4) preceded it by several year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humourously with the proble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old age” (Ian Mowatt, 2008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RNISTO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fictional Scottish town, Burnisto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nd performed by Robert Florence and Iain Connell and produced by The Comedy Unit for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pisode of the series was Broadcast on 1st March 20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Burnistoun. Image shows from L to R: Iain Connell, Robert Florence. Image credit: The Comedy Unit.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MY’S S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, animated and directed by Brian Lim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s a result of the success of Limmy’s live performances at the Fringe and Glasgow International Comedy Fest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ries aired on 11 January 2010 for 6 episo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ttp://www.theskinny.co.uk/media/images/5382/5382_medium.jpg"/>
          <p:cNvPicPr/>
          <p:nvPr/>
        </p:nvPicPr>
        <p:blipFill>
          <a:blip r:embed="rId1"/>
          <a:stretch/>
        </p:blipFill>
        <p:spPr>
          <a:xfrm>
            <a:off x="7907400" y="5000760"/>
            <a:ext cx="1236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ENT SCOTTISH COME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my’s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ist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y got the same appeal as previous comedies, and what do they do for our national ident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n 1870, died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ly most successful in terms of overseas fame, along with Billy Conn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ety theatres, pa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very famous s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ighthood in 1919 as a result of his w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Harry_Lau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929120"/>
            <a:ext cx="1692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land's image in the world today owes muc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icature presented by Harry Lauder's stag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ances, particularly in England, Canada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 tours in the United States. His extravagant high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, glengarry at a jaunty angle, pawky humou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ultra-thrifty" attitudes and sentimental so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eared him to many audi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ampantscotland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dian &amp; actor, born in Dennistoun in 1924, died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career as a serious broadcaster for BBC, performed in Thea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r in panto from 19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ancie &amp; Josie, Scotch &amp; W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ales of Para H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5E019759-B716-1DAF-EDD6F6ED472CEA4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1800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ired from stage in mid-199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popular in Scotland, but not so successful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C Scotland Controller John McCormi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 legend for people across the whol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ch &amp; Wry was watched by half of this popul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figures will never be exceeded and it was Rik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de an appointment with on Hogmana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187280" y="3716280"/>
            <a:ext cx="62643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CH &amp; W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sketch show on B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an in 1978- ran for 1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m Scottish viewers at its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verend I. M. J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n once in England (19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ing class, references to Scottish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51RX40WA7RL"/>
          <p:cNvPicPr/>
          <p:nvPr/>
        </p:nvPicPr>
        <p:blipFill>
          <a:blip r:embed="rId1"/>
          <a:stretch/>
        </p:blipFill>
        <p:spPr>
          <a:xfrm>
            <a:off x="7286760" y="1714680"/>
            <a:ext cx="1477800" cy="208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reverend_im_jol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set in Central or West of Scot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dialect can be a challenge to understand for people outside of Scotland and even outside the region by s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 comedies are expensive to produce if they are only watched by a small proportion of Scottish viewers. However, there has been 3 very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serie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87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b C. Nesbi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presen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ill G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02-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ENGLIS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gramme made in Scotland can compare to the best English come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Fools and Ho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only sitcom ever to have attracted half of the British population to watch its final epis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omedy is almost invariably working class. Whereas many English programmes including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car of Dibl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eping up Appearan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t in exclusively middle-class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http://i.dailymail.co.uk/i/pix/2006/07/dibleyL070706_228x2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86800" y="5394240"/>
            <a:ext cx="13572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AMERIC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ast is much bigger business than Scottish and English Com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s, Frasier and The Simpsons are examples of hugely successful American TV comed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amous actors and quite common to use guest appear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is completely different- most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ely middl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8:04:02Z</dcterms:created>
  <dc:creator>Janine Croft</dc:creator>
  <dc:description/>
  <dc:language>en-US</dc:language>
  <cp:lastModifiedBy>Charlotte Cragg</cp:lastModifiedBy>
  <dcterms:modified xsi:type="dcterms:W3CDTF">2010-04-01T17:47:45Z</dcterms:modified>
  <cp:revision>30</cp:revision>
  <dc:subject/>
  <dc:title>Scottish TV Comedy</dc:title>
</cp:coreProperties>
</file>