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5B87-C2ED-4047-B7AA-DF4E878B4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AFF6-C48F-4000-AD52-30DC15C65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303E-3790-42A8-A2A5-4E263D0DA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EA55-97EB-49B0-A34D-65485F053A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7F04-70E6-48B9-9643-88B8F2124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9227-7483-49DD-8857-CB8A47EBA7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499F-44A2-4BD3-940E-B26AF7943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5C90-FDEF-4402-9DCA-DAF3BA7DD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417F-574A-4EAB-B830-784FCD093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6828-DB48-40BC-8349-E6ED777BB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FCEA-155E-4E17-8ECB-F353289679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9B7-33E8-4CA4-A180-F6B8F919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4DE-AC15-49E2-8293-A6264F61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D79-4051-4EC6-A6B1-6712E53C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F49-689A-4B04-AF51-EB507C73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3FE09-E352-45E8-98E1-587ECD42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E8286-06BA-43B6-A65A-F790B975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3B2A6-A9BB-4548-8BE0-C5BFC5BF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BA931-D8D4-4183-A5D8-BAFBC41D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09B9B-E3E0-41C1-955B-4B13E27D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63850-15B2-4A2E-B7F8-34F36392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8360A-7C75-4CD2-B8DE-BBDB2CC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2724-135C-4D42-BF83-4E119AD9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D257C-1AC5-4183-8564-D88C1B4D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0D204-28D7-476B-933E-5A31C90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F526D-AE42-4CD8-B742-9E26E3CB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A0B2C-CEE1-4CE7-A3F5-9FAA1C4B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EB206-311B-4EA2-B606-AD091C06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7C33-5AAD-465B-85A8-CDF78D75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EDB9-A00C-489F-84F8-4A91A734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1A1F-440C-485C-B800-9C650A17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B2F3-67BD-4598-8CBC-A3E15455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A105-BDE7-43A5-9D04-FD7A58C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4F6-A842-428E-8436-7DEB0547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567C-4519-4CF7-8C46-37E5C293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E0F7-002F-4F2A-AD54-77D2CEC0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6FEC-5CE8-4D1E-9C3B-016BB1F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B6CA-2F3B-4591-B023-7D7820EC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2A23-EDCA-4BF7-9493-3C45B598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C910B-A08E-4A5A-B288-73BED247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813A-03C2-4825-99C8-C72C0E5E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171AB-321C-40B4-8FD9-594F4238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CBF12-17AC-4298-858E-8571E7D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2477-1459-43BE-A3B8-DD6C46DF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254-B0C6-4C25-AF23-BD93DC1B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7DD2-8768-4CD3-A6A1-4AD90DF0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DCA3-1EF5-43BB-9B92-F31E7F90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0036-750C-41BB-8187-665E2347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D38B1-DFEA-497C-B0BE-2F378A89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30A8E-F5CC-4AF1-A340-A4DC1D0D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5178F-7ADC-4D2A-B0E9-5EFD4B9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66FE4-35F5-418F-AD04-3A9CACD4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7003-216E-4353-8798-9ED4226F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828B1-46BE-4341-9548-1D30B90A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94B-2AAA-4815-B86E-28706C7C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A03-7EE9-4B84-B0B3-B6C7EF16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CF9-2D4D-4A99-AED1-5FCCD51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BD8-17C8-469E-B729-4C39F94B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CAF-4D3D-45B3-977F-BE8DF86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EBDB-19E6-4983-BEE1-2F10353C58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14560" cy="11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179280" y="5516640"/>
            <a:ext cx="1114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1A3B-062C-4C82-A3A0-9182876FAC76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1E9E-2C84-4DE3-9FE0-01E246D539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2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7F95-9A85-4234-8B02-787B65CEF333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doI0MrTQI&amp;feature=related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deo.stv.tv/bc/programmes-top30-20081111-francie-and-jos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outube.com/watch?v=0Cpb8rqYFd8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UpBTVilhzY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Michael C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lotte C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Janine 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LIN GILBE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 the BBC as assistant floor manager,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rogramme in Scotland- Naked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d on to start The Comed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www.comedyunit.co.uk/images/colinsmall.jpg"/>
          <p:cNvPicPr/>
          <p:nvPr/>
        </p:nvPicPr>
        <p:blipFill>
          <a:blip r:embed="rId1"/>
          <a:stretch/>
        </p:blipFill>
        <p:spPr>
          <a:xfrm>
            <a:off x="7500960" y="4403880"/>
            <a:ext cx="16430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TY LIGH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TV sitcom made by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-da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7505640" y="4038480"/>
            <a:ext cx="1638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B C NESBIT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wegian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uccessful comedy to go from Scotland to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http://newsimg.bbc.co.uk/media/images/44953000/jpg/_44953645_nesbitt282.jpg"/>
          <p:cNvPicPr/>
          <p:nvPr/>
        </p:nvPicPr>
        <p:blipFill>
          <a:blip r:embed="rId1"/>
          <a:stretch/>
        </p:blipFill>
        <p:spPr>
          <a:xfrm>
            <a:off x="7500960" y="4808520"/>
            <a:ext cx="16430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EWIN’ THE F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’ the Fat is a Scottish comedy useful for an illustration of the ‘ned’ phenomenon (aimless cropped-haired council- scheme male hooligans), which itself goes a long way towards describing modern Scottish culture. “ (Gardiner, 2005: 18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as a Radio series on BBC radio Scotland in 199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many seri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many speci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http://www.comedyunit.co.uk/images/chewinthefat_wallpaper01.jpg"/>
          <p:cNvPicPr/>
          <p:nvPr/>
        </p:nvPicPr>
        <p:blipFill>
          <a:blip r:embed="rId1"/>
          <a:stretch/>
        </p:blipFill>
        <p:spPr>
          <a:xfrm>
            <a:off x="6572160" y="4959360"/>
            <a:ext cx="25718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win’ the F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show until 2002 when it became a sitcom in its own r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ow focuses on two Glaswegian pensioners, Jack Jarvis and Victor McDade and live in the fictional Crai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Broadcast on BBC1 Scotland, with later screenings being show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on BBC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http://scribble.scran.ac.uk/grahamt/files/19/1237/bbc1.jpg"/>
          <p:cNvPicPr/>
          <p:nvPr/>
        </p:nvPicPr>
        <p:blipFill>
          <a:blip r:embed="rId1"/>
          <a:stretch/>
        </p:blipFill>
        <p:spPr>
          <a:xfrm>
            <a:off x="6824520" y="5072040"/>
            <a:ext cx="231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ILL GAM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by actors approximately 30 years younger than their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quite surreal but adds greater humour to the program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suggested that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of the Summer W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73-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 Foot in the Gr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2000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ing for 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4) preceded it by several year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humourously with the proble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old age” (Ian Mowatt, 2008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URNISTO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fictional Scottish town, Burnisto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nd performed by Robert Florence and Iain Connell and produced by The Comedy Unit for BBC Sco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pisode of the series was Broadcast on 1st March 20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Burnistoun. Image shows from L to R: Iain Connell, Robert Florence. Image credit: The Comedy Unit.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MY’S S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, animated and directed by Brian Lim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as a result of the success of Limmy’s live performances at the Fringe and Glasgow International Comedy Fes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ries aired on 11 January 2010 for 6 episo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http://www.theskinny.co.uk/media/images/5382/5382_medium.jpg"/>
          <p:cNvPicPr/>
          <p:nvPr/>
        </p:nvPicPr>
        <p:blipFill>
          <a:blip r:embed="rId1"/>
          <a:stretch/>
        </p:blipFill>
        <p:spPr>
          <a:xfrm>
            <a:off x="7907400" y="5000760"/>
            <a:ext cx="1236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ENT SCOTTISH COMED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my’s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ist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y got the same appeal as previous comedies, and what do they do for our national ident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n 1870, died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ably most successful in terms of overseas fame, along with Billy Conn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ety theatres, pa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very famous s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ighthood in 1919 as a result of his w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Harry_Lau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929120"/>
            <a:ext cx="1692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R HARRY LAUDER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ttish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land's image in the world today owes muc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icature presented by Harry Lauder's st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ances, particularly in England, Canada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2 tours in the United States. His extravagant high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ess, glengarry at a jaunty angle, pawky humou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ultra-thrifty" attitudes and sentimental so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eared him to many audi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rampantscotland,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dian &amp; actor, born in Dennistoun in 1924, died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career as a serious broadcaster for BBC, performed in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r in panto from 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ancie &amp; Josie, Scotch &amp; W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ales of Para H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5E019759-B716-1DAF-EDD6F6ED472CEA4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1800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IKKI FULTON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ired from stage in mid-199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popular in Scotland, but not so successful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BC Scotland Controller John McCormi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was a legend for people across the whol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ch &amp; Wry was watched by half of this popul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ose figures will never be exceeded and it was Rik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made an appointment with on Hogmana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1187280" y="3716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CH &amp; W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sketch show on B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an in 1978- ran for 1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m Scottish viewers at its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verend I. M. Jo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n once in England (19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ing class, references to Scot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51RX40WA7RL"/>
          <p:cNvPicPr/>
          <p:nvPr/>
        </p:nvPicPr>
        <p:blipFill>
          <a:blip r:embed="rId1"/>
          <a:stretch/>
        </p:blipFill>
        <p:spPr>
          <a:xfrm>
            <a:off x="7286760" y="1714680"/>
            <a:ext cx="1477800" cy="208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reverend_im_joll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502272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OTTISH TV COME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et in Central or West of Scot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ish dialect can be a challenge to understand for people outside of Scotland and even outside the region by s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 comedies are expensive to produce if they are only watched by a small proportion of Scottish viewers. However, there has been 3 very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serie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87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1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b C. Nesbi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90-presen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ill G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002-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ENGLIS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gramme made in Scotland can compare to the best English come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Fools and Ho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nly sitcom ever to have attracted half of the British population to watch its final episo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omedy is almost invariably working class. Whereas many English programmes including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car of Dible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eping up Appearanc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et in exclusively middle-class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http://i.dailymail.co.uk/i/pix/2006/07/dibleyL070706_228x2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86800" y="5394240"/>
            <a:ext cx="13572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OTS VS AMERIC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 is much bigger business than Scottish and English Co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s, Frasier and The Simpsons are examples of hugely successful American TV comed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amous actors and quite common to use guest appear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is completely different- most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ly middl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04:02Z</dcterms:created>
  <dc:creator>Janine Croft</dc:creator>
  <dc:description/>
  <dc:language>en-US</dc:language>
  <cp:lastModifiedBy>Charlotte Cragg</cp:lastModifiedBy>
  <dcterms:modified xsi:type="dcterms:W3CDTF">2010-04-01T17:47:45Z</dcterms:modified>
  <cp:revision>30</cp:revision>
  <dc:subject/>
  <dc:title>Scottish TV Comedy</dc:title>
</cp:coreProperties>
</file>