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6.jpeg" ContentType="image/jpeg"/>
  <Override PartName="/ppt/media/image1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9DAE-DA95-4F19-A3A4-0AD0E0A06D1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8192-3771-49A1-A4EB-04DB58AF10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84D3B-172F-4BFE-B901-1EC2C2A75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9B96-BE03-4314-ABCB-2214FEAD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17DA7-5811-4004-BFFE-0E5ACBBE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82341-A771-4795-BA5B-C191FCADD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9887D-7FE0-422B-BCD9-EEFF15242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3162B-2B17-4781-A52A-96136FD26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6EC4C-E7B1-4605-A1C6-17F198702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3E8D6-A079-4553-8C26-D5566E02D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D1EC9-47ED-4A37-ABF8-E0963B390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37290-5930-437E-97CD-F6B2F6CDB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39CB-DEAF-445C-9E5C-0E3D9C68B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8A47-CD8B-4CDE-AE60-FA12DE32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871D5-40E7-4050-A09A-165E48EE9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85B1-4326-4876-A945-2A06D1B17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F9B40-A1AD-4D4E-BC51-978BF851F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37218-4900-4E45-9CCA-EF181651D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CB683-C5E5-49B7-B08D-E1D06A9E4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FFC9D2-5D14-48EA-8E82-A5577CC8E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DF5A5-2098-42D8-9731-55C35FD00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6750E-E7E3-4922-939A-7E310C451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3E5FE-3487-4D1B-8FC6-FD8868D37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CAA76-924B-4076-85E9-4484BF02DE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BD084-EF9A-4CBE-9C1C-0E5BD0FEF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6D156-B546-49BF-A23E-DD0C551F3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FE8F4-DD98-41A9-A5E8-7D1E07175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EBF54-43A3-407F-A2E1-2A2DFBA81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0B514-622A-4B50-98B1-E21BDE7E8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7329B-8042-40D6-A8E6-45595FA9D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4F7252-979B-46B4-9530-7FB43CF93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A578D3-B18E-4F4C-BC13-B3EF83FEA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C2A800-3D5B-4E9A-B8B3-C72B3E96E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7EA93-86DC-4AB1-BF27-A6DD45DBD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6A6DE-B7C1-46A6-86E4-37FF071AA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40F0F-E3EC-483B-8EDB-211C0C7C2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7972C-CB5B-4443-9DEA-820B6CFCA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5307D-E47F-4523-8EB7-C4CD88264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AD94F-76EC-41E5-9614-099880E5C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4D27D-4DDD-4B37-9688-E5C35D145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31B6F-DF69-4D77-8178-8996605925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B1706-29E4-4468-B5BA-0045AC8D2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1E1A09-E6D5-4FF9-99F0-30A0F8CA9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70C7A-E352-4585-BAAE-CDC91EFE2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DE6F06-1379-46EE-A1A3-B98F9D8D66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F435E6-A59B-436E-AD95-14A50E1573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F74D-DFDF-486B-89DE-73BF0EC5A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CF421-C2B0-4AEB-8233-8B2DB141A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054F5-7AFD-4FC9-B368-E8BBCEEEC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84A859-A5EE-405E-AC5B-B0DD3AE69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9C803E-D678-4416-9568-24565392A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C54EA-3352-4A19-AB5A-5CCE02F0DA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D17FC-9648-4674-9CF6-3348F9198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8DFD2E-FFD0-478D-A535-F6A692A21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374F1-751A-4222-A7B7-374147AB3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258A0-FEE5-4005-8EF4-699B568193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C3666B-93C4-4955-B607-486E0E55B9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D10A-99B3-4777-9439-203E0FE4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6E82DD-CD41-494A-ABD1-A9B1A6C39E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B06CA9-A558-4944-8DC9-8A5EAE1680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284E0-5C79-4984-BAEA-717A661AC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FA76A0-ACAF-4F5F-A054-73F86B2D26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BA6EFC-7CA8-4128-A26B-99E2FE7119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9BD4A-A308-4E08-A981-A55ABA214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3A8AF-B265-4F7A-AB21-53176D5F3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E17FC-381A-4941-874B-8B7A82F49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EF6F5-EDB8-4778-9687-C65F11A26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D71C7F-2A5C-4703-A5DF-F6E2421CB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3E88-A11C-4471-BC85-085452C60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C55C6-BCB4-400A-B23F-2CCB454CD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581CD7-AAC2-4013-87D6-A85CB565C5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B26E9-B6A5-4FFA-BA73-6C192504CD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541817-3041-4172-98A1-3E357AA32E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462C32-2DDE-4BC0-9E3D-286D16EA7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EA664A-02E1-4A21-AF7A-F883FED5C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BC541-205D-4866-B580-88D14CE69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A4756-BC2F-4A65-940A-ED75576B8E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F5F7B4-91D0-45F7-AD4D-12B2449401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3A1A2-6F0A-46BF-BC1F-87C95586A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7422-9AB5-4083-A4BB-50FFFC322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AA77F-F777-4A9A-9239-A578A2325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F38A7-A6CD-401B-8248-778D54014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A5AE00-D7D8-48BF-8F67-55C98A48A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9D9A6B-2C88-495E-AC11-62E8993F54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444357-CB22-4F9A-BC22-B9D5053B06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62D41D-C3E4-4546-B564-6C7C047203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E7F06-0A45-46AC-905E-F173EFF8DB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F70DC-267A-47BC-90FD-5234EA8688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F1A9D-D941-490B-88B0-D59FCF5CC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BA17B5-B9EC-4542-BD5C-A55BFBC33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755D-54E9-4833-AEED-9CBBBF73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FB667-4AF9-48FD-B25A-D243032C1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D89BA-66C2-48A7-B1EF-AF1CBD20B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38D6F-B29D-49BE-9068-E99259758B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9B41A-93ED-4436-AD04-273D116AD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0D152-DB5A-4040-9708-731C1723B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823C53-42B1-4477-9049-E8A736E5EC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F70DB7-6682-4F8E-8F82-03B8DD0A3CC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93C4-DEAE-49D3-8434-6ED19B74622B}"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12F6-B5D7-4ACE-A777-634B48A8C1F1}"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A3EB-0B0E-4214-85FE-85DB56633A6B}"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5103-CDF8-4B0B-AEEF-6503225119BE}"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AB99-B50A-40A0-9D21-A726825607F5}"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2FFF-2562-4BCB-B991-3220EAA0315C}"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BF8C-1B06-4B33-A3E7-89E497F37F86}"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31E9-2CF0-4950-9140-C6AB97A31835}"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programmes.stv.tv/taggart/previous-episodes/programmes-taggart-site-saint-and-sinners/"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euyZMFJ4XbM" TargetMode="External"/><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http://www.youtube.com/watch?v=u1OE4flMrH4&amp;feature=related" TargetMode="External"/><Relationship Id="rId5" Type="http://schemas.openxmlformats.org/officeDocument/2006/relationships/image" Target="../media/image21.png"/><Relationship Id="rId6" Type="http://schemas.openxmlformats.org/officeDocument/2006/relationships/hyperlink" Target="http://www.youtube.com/watch?v=XEM9WGA_qNY" TargetMode="External"/><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808992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Graeme Armstrong</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Hannah Clift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lum bright="24000"/>
          </a:blip>
          <a:stretch/>
        </p:blipFill>
        <p:spPr>
          <a:xfrm>
            <a:off x="0" y="0"/>
            <a:ext cx="9144000" cy="6929280"/>
          </a:xfrm>
          <a:prstGeom prst="rect">
            <a:avLst/>
          </a:prstGeom>
          <a:ln w="0">
            <a:noFill/>
          </a:ln>
        </p:spPr>
      </p:pic>
      <p:sp>
        <p:nvSpPr>
          <p:cNvPr id="412" name=""/>
          <p:cNvSpPr txBox="1"/>
          <p:nvPr/>
        </p:nvSpPr>
        <p:spPr>
          <a:xfrm>
            <a:off x="357120" y="713880"/>
            <a:ext cx="8229600" cy="541188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1" lang="en-GB" sz="2500" spc="-1" strike="noStrike">
                <a:solidFill>
                  <a:srgbClr val="000000"/>
                </a:solidFill>
                <a:latin typeface="Lucida Sans Unicode"/>
              </a:rPr>
              <a:t>“</a:t>
            </a:r>
            <a:r>
              <a:rPr b="1" lang="en-GB" sz="2500" spc="-1" strike="noStrike">
                <a:solidFill>
                  <a:srgbClr val="000000"/>
                </a:solidFill>
                <a:latin typeface="Lucida Sans Unicode"/>
              </a:rPr>
              <a:t>Monarch of the Glen does raise interesting issues.  I just came back from Australia where it’s playing on a Saturday at 7.30 and getting record audiences.  And you have that kind of feeling like ‘is this what they think contemporary Scotland is like?’...I’m kind of ambivalent to Monarch.  It’s a tremendous success, international success.  It earns revenue for the BBC which comes back into Scotland.  Of course, if you could get 8 million viewers for a gritty contemporary social challenging drama at 8 o’clock on a Sunday night on BBC1, then you may feel more creatively satisfied.”</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view with McCormick, 2004)</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an from 1980 until 2003.</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riginally started broadcasting to the entire United Kingdom but in its latter years, solely broadcasted in Scotl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learly exhibits the discourse of Kailyar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195120" y="268200"/>
            <a:ext cx="8498160" cy="1158840"/>
          </a:xfrm>
          <a:prstGeom prst="rect">
            <a:avLst/>
          </a:prstGeom>
          <a:ln w="0">
            <a:noFill/>
          </a:ln>
        </p:spPr>
      </p:pic>
      <p:pic>
        <p:nvPicPr>
          <p:cNvPr id="415" name="Picture 4" descr=""/>
          <p:cNvPicPr/>
          <p:nvPr/>
        </p:nvPicPr>
        <p:blipFill>
          <a:blip r:embed="rId2"/>
          <a:stretch/>
        </p:blipFill>
        <p:spPr>
          <a:xfrm>
            <a:off x="6215040" y="285840"/>
            <a:ext cx="2357640" cy="176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Not specifically. It was mainly a show about people living in a rural town in Scotland, but not specifically about Scotland itself.</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was produced by STV Production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Not at first, it was originally broadcast throughout Britain until 1993, from 1994 it was broadcast solely in Scotland.</a:t>
            </a:r>
            <a:endParaRPr b="0" lang="en-US" sz="2300" spc="-1" strike="noStrike">
              <a:solidFill>
                <a:srgbClr val="000000"/>
              </a:solidFill>
              <a:latin typeface="Lucida Sans Unicode"/>
            </a:endParaRPr>
          </a:p>
        </p:txBody>
      </p:sp>
      <p:pic>
        <p:nvPicPr>
          <p:cNvPr id="41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V drama first aired in 1983 and it’s still going toda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the longest running curren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drama on ITV.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ad its highest audience 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1992 with 18.3 million viewers.</a:t>
            </a:r>
            <a:endParaRPr b="0" lang="en-US" sz="2700" spc="-1" strike="noStrike">
              <a:solidFill>
                <a:srgbClr val="000000"/>
              </a:solidFill>
              <a:latin typeface="Lucida Sans Unicode"/>
            </a:endParaRPr>
          </a:p>
        </p:txBody>
      </p:sp>
      <p:pic>
        <p:nvPicPr>
          <p:cNvPr id="419" name="Title 1" descr=""/>
          <p:cNvPicPr/>
          <p:nvPr/>
        </p:nvPicPr>
        <p:blipFill>
          <a:blip r:embed="rId1"/>
          <a:stretch/>
        </p:blipFill>
        <p:spPr>
          <a:xfrm>
            <a:off x="450720" y="268200"/>
            <a:ext cx="8242560" cy="1158840"/>
          </a:xfrm>
          <a:prstGeom prst="rect">
            <a:avLst/>
          </a:prstGeom>
          <a:ln w="0">
            <a:noFill/>
          </a:ln>
        </p:spPr>
      </p:pic>
      <p:pic>
        <p:nvPicPr>
          <p:cNvPr id="420" name="Picture 2" descr=""/>
          <p:cNvPicPr/>
          <p:nvPr/>
        </p:nvPicPr>
        <p:blipFill>
          <a:blip r:embed="rId2"/>
          <a:stretch/>
        </p:blipFill>
        <p:spPr>
          <a:xfrm>
            <a:off x="6286680" y="2286000"/>
            <a:ext cx="2579400" cy="395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About Scotland?  </a:t>
            </a:r>
            <a:r>
              <a:rPr b="0" lang="en-GB" sz="2500" spc="-1" strike="noStrike">
                <a:solidFill>
                  <a:srgbClr val="000000"/>
                </a:solidFill>
                <a:latin typeface="Lucida Sans Unicode"/>
              </a:rPr>
              <a:t>Yes, set in Glasgow.</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By Scotland?  </a:t>
            </a:r>
            <a:r>
              <a:rPr b="0" lang="en-GB" sz="2500" spc="-1" strike="noStrike">
                <a:solidFill>
                  <a:srgbClr val="000000"/>
                </a:solidFill>
                <a:latin typeface="Lucida Sans Unicode"/>
              </a:rPr>
              <a:t>Yes, it’s produced by STV Productions and created by Glenn Chandler who was born in Edinburgh.</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For Scotland?  </a:t>
            </a:r>
            <a:r>
              <a:rPr b="0" lang="en-GB" sz="2500" spc="-1" strike="noStrike">
                <a:solidFill>
                  <a:srgbClr val="000000"/>
                </a:solidFill>
                <a:latin typeface="Lucida Sans Unicode"/>
              </a:rPr>
              <a:t>Maybe.  It is broadcast on ITV.  There was a dispute between STV and ITV about whether ITV would show the new series.  As for Scottish issues, it could be any city, there’s nothing particularly Scottish about i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Title 1" descr=""/>
          <p:cNvPicPr/>
          <p:nvPr/>
        </p:nvPicPr>
        <p:blipFill>
          <a:blip r:embed="rId1"/>
          <a:stretch/>
        </p:blipFill>
        <p:spPr>
          <a:xfrm>
            <a:off x="225360" y="268200"/>
            <a:ext cx="8467920" cy="1158840"/>
          </a:xfrm>
          <a:prstGeom prst="rect">
            <a:avLst/>
          </a:prstGeom>
          <a:ln w="0">
            <a:noFill/>
          </a:ln>
        </p:spPr>
      </p:pic>
      <p:grpSp>
        <p:nvGrpSpPr>
          <p:cNvPr id="423" name="Group 3"/>
          <p:cNvGrpSpPr/>
          <p:nvPr/>
        </p:nvGrpSpPr>
        <p:grpSpPr>
          <a:xfrm>
            <a:off x="6319800" y="0"/>
            <a:ext cx="2824200" cy="2824200"/>
            <a:chOff x="6319800" y="0"/>
            <a:chExt cx="2824200" cy="2824200"/>
          </a:xfrm>
        </p:grpSpPr>
        <p:pic>
          <p:nvPicPr>
            <p:cNvPr id="424" name="Picture 3" descr=""/>
            <p:cNvPicPr/>
            <p:nvPr/>
          </p:nvPicPr>
          <p:blipFill>
            <a:blip r:embed="rId2"/>
            <a:stretch/>
          </p:blipFill>
          <p:spPr>
            <a:xfrm>
              <a:off x="6319800" y="142560"/>
              <a:ext cx="2824200" cy="357120"/>
            </a:xfrm>
            <a:prstGeom prst="rect">
              <a:avLst/>
            </a:prstGeom>
            <a:ln w="0">
              <a:noFill/>
            </a:ln>
          </p:spPr>
        </p:pic>
        <p:pic>
          <p:nvPicPr>
            <p:cNvPr id="425"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28760" y="1071360"/>
            <a:ext cx="8229600" cy="5554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ccents are Scottish, but not very strong.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y occasionally say 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Scottish word or phras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a:t>
            </a:r>
            <a:r>
              <a:rPr b="0" lang="en-GB" sz="2700" spc="-1" strike="noStrike">
                <a:solidFill>
                  <a:srgbClr val="000000"/>
                </a:solidFill>
                <a:latin typeface="Lucida Sans Unicode"/>
              </a:rPr>
              <a:t>Grow up ya daft bugg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Scottish Standard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English they spea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7" name="Picture 2" descr="">
            <a:hlinkClick r:id="rId1"/>
          </p:cNvPr>
          <p:cNvPicPr/>
          <p:nvPr/>
        </p:nvPicPr>
        <p:blipFill>
          <a:blip r:embed="rId2"/>
          <a:stretch/>
        </p:blipFill>
        <p:spPr>
          <a:xfrm>
            <a:off x="5429160" y="1714680"/>
            <a:ext cx="3381480" cy="45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5500800" y="4000680"/>
            <a:ext cx="3405240" cy="2516040"/>
          </a:xfrm>
          <a:prstGeom prst="rect">
            <a:avLst/>
          </a:prstGeom>
          <a:ln w="0">
            <a:noFill/>
          </a:ln>
        </p:spPr>
      </p:pic>
      <p:sp>
        <p:nvSpPr>
          <p:cNvPr id="42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e thought, if it had to be put into one of the discourses, it would Clydesidism.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s about hard working detectiv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shows a darker side of Glasgow, the detectives are solving mur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0" name="Title 1"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gan broadcasting in 2002.</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cotl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uld this be considered an accurate representation of Scotland/Glasgow?</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2" name="Title 2" descr=""/>
          <p:cNvPicPr/>
          <p:nvPr/>
        </p:nvPicPr>
        <p:blipFill>
          <a:blip r:embed="rId1"/>
          <a:stretch/>
        </p:blipFill>
        <p:spPr>
          <a:xfrm>
            <a:off x="195120" y="268200"/>
            <a:ext cx="8498160" cy="1158840"/>
          </a:xfrm>
          <a:prstGeom prst="rect">
            <a:avLst/>
          </a:prstGeom>
          <a:ln w="0">
            <a:noFill/>
          </a:ln>
        </p:spPr>
      </p:pic>
      <p:pic>
        <p:nvPicPr>
          <p:cNvPr id="433" name="Picture 2" descr=""/>
          <p:cNvPicPr/>
          <p:nvPr/>
        </p:nvPicPr>
        <p:blipFill>
          <a:blip r:embed="rId2"/>
          <a:stretch/>
        </p:blipFill>
        <p:spPr>
          <a:xfrm>
            <a:off x="5929200" y="214200"/>
            <a:ext cx="3068640" cy="19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t really. It is just a show about people who happen to be Scottish. There is no special significance that Scotland is the setting.</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Yes, it is produced by BBC Scotland in the Dumbarton Studio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 Currently, it is broadcast for a Scottish audience, but it can be viewed on digital cable channels out with Scotland.</a:t>
            </a:r>
            <a:endParaRPr b="0" lang="en-US" sz="23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With its small-scale industrial heritage and its residually working-class feel, with its kenspeckle local personalities and at times somewhat claustrophobically parochial range – characters seldom venture furth of Shieldinch – </a:t>
            </a:r>
            <a:r>
              <a:rPr b="0" i="1" lang="en-GB" sz="2300" spc="-1" strike="noStrike">
                <a:solidFill>
                  <a:srgbClr val="000000"/>
                </a:solidFill>
                <a:latin typeface="Lucida Sans Unicode"/>
              </a:rPr>
              <a:t>River City </a:t>
            </a:r>
            <a:r>
              <a:rPr b="0" lang="en-GB" sz="2300" spc="-1" strike="noStrike">
                <a:solidFill>
                  <a:srgbClr val="000000"/>
                </a:solidFill>
                <a:latin typeface="Lucida Sans Unicode"/>
              </a:rPr>
              <a:t>combines some residual elements of the Kailyard with a somewhat larger dose of watered-down Clydesideism.”</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ugh O’Donnell, 2008. P130-131)</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What is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History of Scottish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Three Scottish Discourses &amp; Example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iver City</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Psycho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Gaelic TV Drama</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Conclus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cast in 1999</a:t>
            </a:r>
            <a:endParaRPr b="0" lang="en-US" sz="23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 Kudos Production (Life on Mars, Ashes to Ash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road Scottish accents, probably because the cast are predominantly Scottish.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an it be classed as any one of the 3 Scottish discourses?</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ff8119"/>
                </a:solidFill>
                <a:uFillTx/>
                <a:latin typeface="Lucida Sans Unicode"/>
                <a:hlinkClick r:id="rId1"/>
              </a:rPr>
              <a:t>http://www.youtube.com/watch?v=euyZMFJ4XbM</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9" name="Title 2" descr=""/>
          <p:cNvPicPr/>
          <p:nvPr/>
        </p:nvPicPr>
        <p:blipFill>
          <a:blip r:embed="rId2"/>
          <a:stretch/>
        </p:blipFill>
        <p:spPr>
          <a:xfrm>
            <a:off x="195120" y="268200"/>
            <a:ext cx="8498160" cy="1158840"/>
          </a:xfrm>
          <a:prstGeom prst="rect">
            <a:avLst/>
          </a:prstGeom>
          <a:ln w="0">
            <a:noFill/>
          </a:ln>
        </p:spPr>
      </p:pic>
      <p:pic>
        <p:nvPicPr>
          <p:cNvPr id="440" name="Picture 3" descr="psychos.bmp"/>
          <p:cNvPicPr/>
          <p:nvPr/>
        </p:nvPicPr>
        <p:blipFill>
          <a:blip r:embed="rId3"/>
          <a:stretch/>
        </p:blipFill>
        <p:spPr>
          <a:xfrm>
            <a:off x="5715000" y="142920"/>
            <a:ext cx="320040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 </a:t>
            </a:r>
            <a:r>
              <a:rPr b="0" lang="en-GB" sz="2300" spc="-1" strike="noStrike">
                <a:solidFill>
                  <a:srgbClr val="000000"/>
                </a:solidFill>
                <a:latin typeface="Lucida Sans Unicode"/>
              </a:rPr>
              <a:t>No, it is about the psychiatric unit of a Glasgow Hospital. No special connection to Scotland or its heritage.</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 </a:t>
            </a:r>
            <a:r>
              <a:rPr b="0" lang="en-GB" sz="2300" spc="-1" strike="noStrike">
                <a:solidFill>
                  <a:srgbClr val="000000"/>
                </a:solidFill>
                <a:latin typeface="Lucida Sans Unicode"/>
              </a:rPr>
              <a:t>No, it was produced by Kudos Productions, based in Lond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 </a:t>
            </a:r>
            <a:r>
              <a:rPr b="0" lang="en-GB" sz="2300" spc="-1" strike="noStrike">
                <a:solidFill>
                  <a:srgbClr val="000000"/>
                </a:solidFill>
                <a:latin typeface="Lucida Sans Unicode"/>
              </a:rPr>
              <a:t>No, it was broadcast throughout the UK and maybe even overseas given it was distributed by </a:t>
            </a:r>
            <a:r>
              <a:rPr b="0" i="1" lang="en-GB" sz="2300" spc="-1" strike="noStrike">
                <a:solidFill>
                  <a:srgbClr val="000000"/>
                </a:solidFill>
                <a:latin typeface="Lucida Sans Unicode"/>
              </a:rPr>
              <a:t>‘Channel 4 International’</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The Gaelic Television Committee (CTG) was established by the 1990 Broadcasting Act to provide funding and back-up for Gaelic based programmes. Its aim of providing an additional 200 hours of Gaelic television effectively trebled the Gaelic output, and at the time it was estimated that up to 200 jobs would be created either directly or indirectly by the initiative.”</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ttp://www.smo.uhi.ac.uk/canan/gaidhlig-97/media.html)</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4"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28760" y="15001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roduced by Scottish Television Enterprise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reated, Developed &amp; Written by Peter May and Janice Hally</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an from 1993 until 1999 (O’Donnell, 2008, p124)</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By the most recent census in 2001, the figure for Gaelic speakers was down to 58,652, although 92,000 claimed some Gaelic skills (for example, reading).”</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rmack, 2008, p216)</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46"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28760" y="17859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700" spc="-1" strike="noStrike">
                <a:solidFill>
                  <a:srgbClr val="000000"/>
                </a:solidFill>
                <a:latin typeface="Lucida Sans Unicode"/>
              </a:rPr>
              <a:t>Primary objective is to entert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reatest crime is to stereotype charac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 they ever consider the representations of Scotland they are giv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is clear evidence that some shows fit into some of the discourses, but it is not always clear cut.  Some may be more prominent than other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artanry can be a good thing as it helps keep Scotland globally popul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f the writers of River City don’t see Scottish representation as an issue, should we?</a:t>
            </a:r>
            <a:endParaRPr b="0" lang="en-US" sz="27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Anon. (2010).  </a:t>
            </a:r>
            <a:r>
              <a:rPr b="0" i="1" lang="en-GB" sz="1100" spc="-1" strike="noStrike">
                <a:solidFill>
                  <a:srgbClr val="000000"/>
                </a:solidFill>
                <a:latin typeface="Lucida Sans Unicode"/>
              </a:rPr>
              <a:t>The Rise and Continued Success of the Gaelic Media.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smo.uhi.ac.uk/canan/gaidhlig-97/media.html Accessed 17 March 2010</a:t>
            </a:r>
            <a:r>
              <a:rPr b="0" lang="en-GB" sz="1100" spc="-1" strike="noStrike">
                <a:solidFill>
                  <a:srgbClr val="000000"/>
                </a:solidFill>
                <a:latin typeface="Lucida Sans Unicode"/>
              </a:rPr>
              <a:t>.</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BC (2008).  </a:t>
            </a:r>
            <a:r>
              <a:rPr b="0" i="1" lang="en-GB" sz="1100" spc="-1" strike="noStrike">
                <a:solidFill>
                  <a:srgbClr val="000000"/>
                </a:solidFill>
                <a:latin typeface="Lucida Sans Unicode"/>
              </a:rPr>
              <a:t>Monarch of the Glen.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bbc.co.uk/scotland/tv/monarch/</a:t>
            </a:r>
            <a:r>
              <a:rPr b="0" lang="en-GB" sz="1100" spc="-1" strike="noStrike">
                <a:solidFill>
                  <a:srgbClr val="000000"/>
                </a:solidFill>
                <a:latin typeface="Lucida Sans Unicode"/>
              </a:rPr>
              <a:t>  Accessed 15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Blandford, Steve (2005).  BBC drama at the margins: the contrasting fortunes of Northern Irish, Scottish and Welsh Television Drama in the 1990s.  In Bigness, Jonathon and Lacy, Stephen (eds.).  </a:t>
            </a:r>
            <a:r>
              <a:rPr b="0" i="1" lang="en-GB" sz="1100" spc="-1" strike="noStrike">
                <a:solidFill>
                  <a:srgbClr val="000000"/>
                </a:solidFill>
                <a:latin typeface="Lucida Sans Unicode"/>
              </a:rPr>
              <a:t>Popular Television Drama: Critical Perspectives.  </a:t>
            </a:r>
            <a:r>
              <a:rPr b="0" lang="en-GB" sz="1100" spc="-1" strike="noStrike">
                <a:solidFill>
                  <a:srgbClr val="000000"/>
                </a:solidFill>
                <a:latin typeface="Lucida Sans Unicode"/>
              </a:rPr>
              <a:t>Manchester University Press.</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ok, John (2008).  Three Ring Circus: Television Drama about, by and for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Cormack, Mike (2008).  Gaelic, the Media and Scotland.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Ecosse Films (2010).  </a:t>
            </a:r>
            <a:r>
              <a:rPr b="0" i="1" lang="en-GB" sz="1100" spc="-1" strike="noStrike">
                <a:solidFill>
                  <a:srgbClr val="000000"/>
                </a:solidFill>
                <a:latin typeface="Lucida Sans Unicode"/>
              </a:rPr>
              <a:t>Ecosse Film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ecossefilms.com/</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Godwin, Robert, Godwin, Valerie and Pope, Jackie (2004).  </a:t>
            </a:r>
            <a:r>
              <a:rPr b="0" i="1" lang="en-GB" sz="1100" spc="-1" strike="noStrike">
                <a:solidFill>
                  <a:srgbClr val="000000"/>
                </a:solidFill>
                <a:latin typeface="Lucida Sans Unicode"/>
              </a:rPr>
              <a:t>Taggart Fan Club.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taggart-fanclub.co.uk/</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High Road.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63499/</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Machair.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uk.imdb.com/title/tt0416389/</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Psychos.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197786/</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IMDB (2010).  </a:t>
            </a:r>
            <a:r>
              <a:rPr b="0" i="1" lang="en-GB" sz="1100" spc="-1" strike="noStrike">
                <a:solidFill>
                  <a:srgbClr val="000000"/>
                </a:solidFill>
                <a:latin typeface="Lucida Sans Unicode"/>
              </a:rPr>
              <a:t>River City.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www.imdb.com/title/tt0338653/</a:t>
            </a:r>
            <a:r>
              <a:rPr b="0" lang="en-GB" sz="1100" spc="-1" strike="noStrike">
                <a:solidFill>
                  <a:srgbClr val="000000"/>
                </a:solidFill>
                <a:latin typeface="Lucida Sans Unicode"/>
              </a:rPr>
              <a:t>  Accessed 18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O’Donnell, Hugh (2008).  ‘Nae Bevvying, Nae Skiving’: Language and Community in the Scottish Soap Opera.  In: Blain, Neil and Hutchison, David (eds.).  </a:t>
            </a:r>
            <a:r>
              <a:rPr b="0" i="1" lang="en-GB" sz="1100" spc="-1" strike="noStrike">
                <a:solidFill>
                  <a:srgbClr val="000000"/>
                </a:solidFill>
                <a:latin typeface="Lucida Sans Unicode"/>
              </a:rPr>
              <a:t>The Media In Scotland.  </a:t>
            </a:r>
            <a:r>
              <a:rPr b="0" lang="en-GB" sz="1100" spc="-1" strike="noStrike">
                <a:solidFill>
                  <a:srgbClr val="000000"/>
                </a:solidFill>
                <a:latin typeface="Lucida Sans Unicode"/>
              </a:rPr>
              <a:t>Edinburgh University Press, Edinburgh.</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STV (2010).  </a:t>
            </a:r>
            <a:r>
              <a:rPr b="0" i="1" lang="en-GB" sz="1100" spc="-1" strike="noStrike">
                <a:solidFill>
                  <a:srgbClr val="000000"/>
                </a:solidFill>
                <a:latin typeface="Lucida Sans Unicode"/>
              </a:rPr>
              <a:t>Taggart.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programmes.stv.tv/taggart/</a:t>
            </a:r>
            <a:r>
              <a:rPr b="0" lang="en-GB" sz="1100" spc="-1" strike="noStrike">
                <a:solidFill>
                  <a:srgbClr val="000000"/>
                </a:solidFill>
                <a:latin typeface="Lucida Sans Unicode"/>
              </a:rPr>
              <a:t> Accessed 17 March 2010.</a:t>
            </a:r>
            <a:endParaRPr b="0" lang="en-US" sz="11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Sans Unicode"/>
              </a:rPr>
              <a:t>University of Glasgow (2010).  </a:t>
            </a:r>
            <a:r>
              <a:rPr b="0" i="1" lang="en-GB" sz="1100" spc="-1" strike="noStrike">
                <a:solidFill>
                  <a:srgbClr val="000000"/>
                </a:solidFill>
                <a:latin typeface="Lucida Sans Unicode"/>
              </a:rPr>
              <a:t>James Bridie.  </a:t>
            </a:r>
            <a:r>
              <a:rPr b="0" lang="en-GB" sz="1100" spc="-1" strike="noStrike">
                <a:solidFill>
                  <a:srgbClr val="000000"/>
                </a:solidFill>
                <a:latin typeface="Lucida Sans Unicode"/>
              </a:rPr>
              <a:t>Available from: </a:t>
            </a:r>
            <a:r>
              <a:rPr b="0" lang="en-GB" sz="1100" spc="-1" strike="noStrike" u="sng">
                <a:solidFill>
                  <a:srgbClr val="000000"/>
                </a:solidFill>
                <a:uFillTx/>
                <a:latin typeface="Lucida Sans Unicode"/>
              </a:rPr>
              <a:t>http://special.lib.gla.ac.uk/sta/people/bridie.html</a:t>
            </a:r>
            <a:r>
              <a:rPr b="0" lang="en-GB" sz="1100" spc="-1" strike="noStrike">
                <a:solidFill>
                  <a:srgbClr val="000000"/>
                </a:solidFill>
                <a:latin typeface="Lucida Sans Unicode"/>
              </a:rPr>
              <a:t>  Accessed 16 March 2010.</a:t>
            </a:r>
            <a:endParaRPr b="0" lang="en-US" sz="1100" spc="-1" strike="noStrike">
              <a:solidFill>
                <a:srgbClr val="000000"/>
              </a:solidFill>
              <a:latin typeface="Lucida Sans Unicode"/>
            </a:endParaRPr>
          </a:p>
        </p:txBody>
      </p:sp>
      <p:pic>
        <p:nvPicPr>
          <p:cNvPr id="452"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50198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ring circus</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About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By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	</a:t>
            </a:r>
            <a:r>
              <a:rPr b="0" lang="en-GB" sz="2500" spc="-1" strike="noStrike">
                <a:solidFill>
                  <a:srgbClr val="000000"/>
                </a:solidFill>
                <a:latin typeface="Lucida Sans Unicode"/>
              </a:rPr>
              <a:t>- For Scotland</a:t>
            </a: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Television drama may be ‘about’ Scotland but that does not necessarily mean, always, that it has been produced ‘by’ Scotland, or that Scottish interests and influences have been paramount in shaping the resulting images and representations.”</a:t>
            </a:r>
            <a:endParaRPr b="0" lang="en-US" sz="2500" spc="-1" strike="noStrike">
              <a:solidFill>
                <a:srgbClr val="000000"/>
              </a:solidFill>
              <a:latin typeface="Lucida Sans Unicode"/>
            </a:endParaRPr>
          </a:p>
          <a:p>
            <a:pPr marL="365040" indent="-25560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Cook, 2008)</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2" name="Title 1" descr=""/>
          <p:cNvPicPr/>
          <p:nvPr/>
        </p:nvPicPr>
        <p:blipFill>
          <a:blip r:embed="rId1"/>
          <a:stretch/>
        </p:blipFill>
        <p:spPr>
          <a:xfrm>
            <a:off x="195120" y="268200"/>
            <a:ext cx="8498160" cy="1158840"/>
          </a:xfrm>
          <a:prstGeom prst="rect">
            <a:avLst/>
          </a:prstGeom>
          <a:ln w="0">
            <a:noFill/>
          </a:ln>
        </p:spPr>
      </p:pic>
      <p:pic>
        <p:nvPicPr>
          <p:cNvPr id="383" name="Picture 2" descr=""/>
          <p:cNvPicPr/>
          <p:nvPr/>
        </p:nvPicPr>
        <p:blipFill>
          <a:blip r:embed="rId2"/>
          <a:stretch/>
        </p:blipFill>
        <p:spPr>
          <a:xfrm>
            <a:off x="4357800" y="1357200"/>
            <a:ext cx="1998720" cy="2143080"/>
          </a:xfrm>
          <a:prstGeom prst="rect">
            <a:avLst/>
          </a:prstGeom>
          <a:ln w="0">
            <a:noFill/>
          </a:ln>
        </p:spPr>
      </p:pic>
      <p:pic>
        <p:nvPicPr>
          <p:cNvPr id="384" name="Picture 4" descr=""/>
          <p:cNvPicPr/>
          <p:nvPr/>
        </p:nvPicPr>
        <p:blipFill>
          <a:blip r:embed="rId3"/>
          <a:stretch/>
        </p:blipFill>
        <p:spPr>
          <a:xfrm>
            <a:off x="6572160" y="1500120"/>
            <a:ext cx="2233800" cy="18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ion first came to Scotland in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First Scottish Television Drama aired on 19 March 1952.</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Unicode"/>
              </a:rPr>
              <a:t>‘</a:t>
            </a:r>
            <a:r>
              <a:rPr b="0" i="1" lang="en-GB" sz="2000" spc="-1" strike="noStrike">
                <a:solidFill>
                  <a:srgbClr val="000000"/>
                </a:solidFill>
                <a:latin typeface="Lucida Sans Unicode"/>
              </a:rPr>
              <a:t>The Old Lady Shows Her Medals’ </a:t>
            </a:r>
            <a:r>
              <a:rPr b="0" lang="en-GB" sz="2000" spc="-1" strike="noStrike">
                <a:solidFill>
                  <a:srgbClr val="000000"/>
                </a:solidFill>
                <a:latin typeface="Lucida Sans Unicode"/>
              </a:rPr>
              <a:t>by J.M. Barr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Televised from Glasgow Citizen’s Theatr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James Bridie</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haric Mclare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4" descr=""/>
          <p:cNvPicPr/>
          <p:nvPr/>
        </p:nvPicPr>
        <p:blipFill>
          <a:blip r:embed="rId2"/>
          <a:stretch/>
        </p:blipFill>
        <p:spPr>
          <a:xfrm>
            <a:off x="6572160" y="3714840"/>
            <a:ext cx="1455840" cy="25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tanry:</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Garish symbol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Portrays a ‘romantic’ Scotlan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Usually how the rest of the world see’s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ailyard:</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Rural life in the highland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ydesideism:</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Hard working Scottish ma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Concentrates on the West of Scotland – typically </a:t>
            </a:r>
            <a:r>
              <a:rPr b="0" lang="en-GB" sz="2300" spc="-1" strike="noStrike">
                <a:solidFill>
                  <a:srgbClr val="000000"/>
                </a:solidFill>
                <a:latin typeface="Lucida Sans Unicode"/>
              </a:rPr>
              <a:t>	</a:t>
            </a:r>
            <a:r>
              <a:rPr b="0" lang="en-GB" sz="2300" spc="-1" strike="noStrike">
                <a:solidFill>
                  <a:srgbClr val="000000"/>
                </a:solidFill>
                <a:latin typeface="Lucida Sans Unicode"/>
              </a:rPr>
              <a:t>  Glasgow</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It can show a darker side of Scotland</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grpSp>
        <p:nvGrpSpPr>
          <p:cNvPr id="390" name="Group 3"/>
          <p:cNvGrpSpPr/>
          <p:nvPr/>
        </p:nvGrpSpPr>
        <p:grpSpPr>
          <a:xfrm>
            <a:off x="6319800" y="0"/>
            <a:ext cx="2824200" cy="2824200"/>
            <a:chOff x="6319800" y="0"/>
            <a:chExt cx="2824200" cy="2824200"/>
          </a:xfrm>
        </p:grpSpPr>
        <p:pic>
          <p:nvPicPr>
            <p:cNvPr id="391" name="Picture 3" descr=""/>
            <p:cNvPicPr/>
            <p:nvPr/>
          </p:nvPicPr>
          <p:blipFill>
            <a:blip r:embed="rId2"/>
            <a:stretch/>
          </p:blipFill>
          <p:spPr>
            <a:xfrm>
              <a:off x="6319800" y="142560"/>
              <a:ext cx="2824200" cy="357120"/>
            </a:xfrm>
            <a:prstGeom prst="rect">
              <a:avLst/>
            </a:prstGeom>
            <a:ln w="0">
              <a:noFill/>
            </a:ln>
          </p:spPr>
        </p:pic>
        <p:pic>
          <p:nvPicPr>
            <p:cNvPr id="392"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3" descr=""/>
          <p:cNvPicPr/>
          <p:nvPr/>
        </p:nvPicPr>
        <p:blipFill>
          <a:blip r:embed="rId1">
            <a:lum bright="24000"/>
          </a:blip>
          <a:stretch/>
        </p:blipFill>
        <p:spPr>
          <a:xfrm>
            <a:off x="0" y="0"/>
            <a:ext cx="9144000" cy="6929280"/>
          </a:xfrm>
          <a:prstGeom prst="rect">
            <a:avLst/>
          </a:prstGeom>
          <a:ln w="0">
            <a:noFill/>
          </a:ln>
        </p:spPr>
      </p:pic>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BC series that first aired in February 2000 and ran for 7 series until 200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ly tartanry, although Zumkhawala-Cook says it’s Kailyard. </a:t>
            </a:r>
            <a:endParaRPr b="0" lang="en-US" sz="2700" spc="-1" strike="noStrike">
              <a:solidFill>
                <a:srgbClr val="000000"/>
              </a:solidFill>
              <a:latin typeface="Lucida Sans Unicode"/>
            </a:endParaRPr>
          </a:p>
        </p:txBody>
      </p:sp>
      <p:pic>
        <p:nvPicPr>
          <p:cNvPr id="395" name="Title 1" descr=""/>
          <p:cNvPicPr/>
          <p:nvPr/>
        </p:nvPicPr>
        <p:blipFill>
          <a:blip r:embed="rId2"/>
          <a:stretch/>
        </p:blipFill>
        <p:spPr>
          <a:xfrm>
            <a:off x="195120" y="268200"/>
            <a:ext cx="8620200" cy="1158840"/>
          </a:xfrm>
          <a:prstGeom prst="rect">
            <a:avLst/>
          </a:prstGeom>
          <a:ln w="0">
            <a:noFill/>
          </a:ln>
        </p:spPr>
      </p:pic>
      <p:pic>
        <p:nvPicPr>
          <p:cNvPr id="396" name="Picture 2" descr=""/>
          <p:cNvPicPr/>
          <p:nvPr/>
        </p:nvPicPr>
        <p:blipFill>
          <a:blip r:embed="rId3"/>
          <a:stretch/>
        </p:blipFill>
        <p:spPr>
          <a:xfrm>
            <a:off x="4286160" y="3429000"/>
            <a:ext cx="4262400" cy="3044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bout Scotland?  </a:t>
            </a:r>
            <a:r>
              <a:rPr b="0" lang="en-GB" sz="2300" spc="-1" strike="noStrike">
                <a:solidFill>
                  <a:srgbClr val="000000"/>
                </a:solidFill>
                <a:latin typeface="Lucida Sans Unicode"/>
              </a:rPr>
              <a:t>Yes, it’s set and filmed in the Scottish highlands with mainly Scottish character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By Scotland?  </a:t>
            </a:r>
            <a:r>
              <a:rPr b="0" lang="en-GB" sz="2300" spc="-1" strike="noStrike">
                <a:solidFill>
                  <a:srgbClr val="000000"/>
                </a:solidFill>
                <a:latin typeface="Lucida Sans Unicode"/>
              </a:rPr>
              <a:t>Commissioned by BBC Scotland, but produced by Ecosse Films, who are based in London.  The creator Michael Chaplin in also English.</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For Scotland?  </a:t>
            </a:r>
            <a:r>
              <a:rPr b="0" lang="en-GB" sz="2300" spc="-1" strike="noStrike">
                <a:solidFill>
                  <a:srgbClr val="000000"/>
                </a:solidFill>
                <a:latin typeface="Lucida Sans Unicode"/>
              </a:rPr>
              <a:t>It was broadcast on BBC 1 to the whole of Britain.  It doesn’t deal with particularly Scottish issues such as politics, the issues it does deal with tend to be more ‘stereotypically’ Scottish and for entertainment purpos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8" name="Title 1" descr=""/>
          <p:cNvPicPr/>
          <p:nvPr/>
        </p:nvPicPr>
        <p:blipFill>
          <a:blip r:embed="rId1"/>
          <a:stretch/>
        </p:blipFill>
        <p:spPr>
          <a:xfrm>
            <a:off x="225360" y="122400"/>
            <a:ext cx="8467920" cy="1304640"/>
          </a:xfrm>
          <a:prstGeom prst="rect">
            <a:avLst/>
          </a:prstGeom>
          <a:ln w="0">
            <a:noFill/>
          </a:ln>
        </p:spPr>
      </p:pic>
      <p:grpSp>
        <p:nvGrpSpPr>
          <p:cNvPr id="399" name="Group 6"/>
          <p:cNvGrpSpPr/>
          <p:nvPr/>
        </p:nvGrpSpPr>
        <p:grpSpPr>
          <a:xfrm>
            <a:off x="6319800" y="0"/>
            <a:ext cx="2824200" cy="2824200"/>
            <a:chOff x="6319800" y="0"/>
            <a:chExt cx="2824200" cy="2824200"/>
          </a:xfrm>
        </p:grpSpPr>
        <p:pic>
          <p:nvPicPr>
            <p:cNvPr id="400" name="Picture 3" descr=""/>
            <p:cNvPicPr/>
            <p:nvPr/>
          </p:nvPicPr>
          <p:blipFill>
            <a:blip r:embed="rId2"/>
            <a:stretch/>
          </p:blipFill>
          <p:spPr>
            <a:xfrm>
              <a:off x="6319800" y="142560"/>
              <a:ext cx="2824200" cy="357120"/>
            </a:xfrm>
            <a:prstGeom prst="rect">
              <a:avLst/>
            </a:prstGeom>
            <a:ln w="0">
              <a:noFill/>
            </a:ln>
          </p:spPr>
        </p:pic>
        <p:pic>
          <p:nvPicPr>
            <p:cNvPr id="401" name="Picture 3" descr=""/>
            <p:cNvPicPr/>
            <p:nvPr/>
          </p:nvPicPr>
          <p:blipFill>
            <a:blip r:embed="rId3"/>
            <a:stretch/>
          </p:blipFill>
          <p:spPr>
            <a:xfrm rot="5400000">
              <a:off x="7267320" y="1233360"/>
              <a:ext cx="2824200" cy="357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5019840"/>
          </a:xfrm>
          <a:prstGeom prst="rect">
            <a:avLst/>
          </a:prstGeom>
          <a:noFill/>
          <a:ln w="0">
            <a:noFill/>
          </a:ln>
        </p:spPr>
        <p:txBody>
          <a:bodyPr anchor="t">
            <a:normAutofit/>
          </a:bodyPr>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It’s full of stereotypical Scottishnes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othes: Duncan wears a kil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	</a:t>
            </a:r>
            <a:r>
              <a:rPr b="0" lang="en-GB" sz="2300" spc="-1" strike="noStrike">
                <a:solidFill>
                  <a:srgbClr val="000000"/>
                </a:solidFill>
                <a:latin typeface="Lucida Sans Unicode"/>
              </a:rPr>
              <a:t>Molly often wears a tartan sash.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live in a picturesque castle in the highlands surrounded by hills, lochs, and de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pening credit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ssic episode.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Nice’ stereotypical accents which appeals to a wider      </a:t>
            </a:r>
            <a:r>
              <a:rPr b="0" lang="en-GB" sz="2300" spc="-1" strike="noStrike">
                <a:solidFill>
                  <a:srgbClr val="000000"/>
                </a:solidFill>
                <a:latin typeface="Lucida Sans Unicode"/>
              </a:rPr>
              <a:t>	</a:t>
            </a:r>
            <a:r>
              <a:rPr b="0" lang="en-GB" sz="2300" spc="-1" strike="noStrike">
                <a:solidFill>
                  <a:srgbClr val="000000"/>
                </a:solidFill>
                <a:latin typeface="Lucida Sans Unicode"/>
              </a:rPr>
              <a:t>	</a:t>
            </a:r>
            <a:r>
              <a:rPr b="0" lang="en-GB" sz="2300" spc="-1" strike="noStrike">
                <a:solidFill>
                  <a:srgbClr val="000000"/>
                </a:solidFill>
                <a:latin typeface="Lucida Sans Unicode"/>
              </a:rPr>
              <a:t>audience.</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3" name="Title 1" descr=""/>
          <p:cNvPicPr/>
          <p:nvPr/>
        </p:nvPicPr>
        <p:blipFill>
          <a:blip r:embed="rId1"/>
          <a:stretch/>
        </p:blipFill>
        <p:spPr>
          <a:xfrm>
            <a:off x="225360" y="268200"/>
            <a:ext cx="8467920" cy="1158840"/>
          </a:xfrm>
          <a:prstGeom prst="rect">
            <a:avLst/>
          </a:prstGeom>
          <a:ln w="0">
            <a:noFill/>
          </a:ln>
        </p:spPr>
      </p:pic>
      <p:grpSp>
        <p:nvGrpSpPr>
          <p:cNvPr id="404" name="Group 3"/>
          <p:cNvGrpSpPr/>
          <p:nvPr/>
        </p:nvGrpSpPr>
        <p:grpSpPr>
          <a:xfrm>
            <a:off x="6319800" y="0"/>
            <a:ext cx="2824200" cy="2824200"/>
            <a:chOff x="6319800" y="0"/>
            <a:chExt cx="2824200" cy="2824200"/>
          </a:xfrm>
        </p:grpSpPr>
        <p:pic>
          <p:nvPicPr>
            <p:cNvPr id="405" name="Picture 3" descr=""/>
            <p:cNvPicPr/>
            <p:nvPr/>
          </p:nvPicPr>
          <p:blipFill>
            <a:blip r:embed="rId2"/>
            <a:stretch/>
          </p:blipFill>
          <p:spPr>
            <a:xfrm>
              <a:off x="6319800" y="142560"/>
              <a:ext cx="2824200" cy="357120"/>
            </a:xfrm>
            <a:prstGeom prst="rect">
              <a:avLst/>
            </a:prstGeom>
            <a:ln w="0">
              <a:noFill/>
            </a:ln>
          </p:spPr>
        </p:pic>
        <p:pic>
          <p:nvPicPr>
            <p:cNvPr id="406" name="Picture 3" descr=""/>
            <p:cNvPicPr/>
            <p:nvPr/>
          </p:nvPicPr>
          <p:blipFill>
            <a:blip r:embed="rId3"/>
            <a:stretch/>
          </p:blipFill>
          <p:spPr>
            <a:xfrm rot="5400000">
              <a:off x="7267320" y="1233360"/>
              <a:ext cx="2824200" cy="357120"/>
            </a:xfrm>
            <a:prstGeom prst="rect">
              <a:avLst/>
            </a:prstGeom>
            <a:ln w="0">
              <a:noFill/>
            </a:ln>
          </p:spPr>
        </p:pic>
      </p:grpSp>
      <p:pic>
        <p:nvPicPr>
          <p:cNvPr id="407" name="Picture 2" descr="">
            <a:hlinkClick r:id="rId4"/>
          </p:cNvPr>
          <p:cNvPicPr/>
          <p:nvPr/>
        </p:nvPicPr>
        <p:blipFill>
          <a:blip r:embed="rId5"/>
          <a:stretch/>
        </p:blipFill>
        <p:spPr>
          <a:xfrm>
            <a:off x="6286680" y="1214280"/>
            <a:ext cx="1500120" cy="1825920"/>
          </a:xfrm>
          <a:prstGeom prst="rect">
            <a:avLst/>
          </a:prstGeom>
          <a:ln w="0">
            <a:noFill/>
          </a:ln>
        </p:spPr>
      </p:pic>
      <p:pic>
        <p:nvPicPr>
          <p:cNvPr id="408" name="Picture 4" descr="">
            <a:hlinkClick r:id="rId6"/>
          </p:cNvPr>
          <p:cNvPicPr/>
          <p:nvPr/>
        </p:nvPicPr>
        <p:blipFill>
          <a:blip r:embed="rId7"/>
          <a:stretch/>
        </p:blipFill>
        <p:spPr>
          <a:xfrm>
            <a:off x="5214960" y="3762360"/>
            <a:ext cx="28573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lum bright="24000"/>
          </a:blip>
          <a:stretch/>
        </p:blipFill>
        <p:spPr>
          <a:xfrm>
            <a:off x="0" y="0"/>
            <a:ext cx="9144000" cy="6929280"/>
          </a:xfrm>
          <a:prstGeom prst="rect">
            <a:avLst/>
          </a:prstGeom>
          <a:ln w="0">
            <a:noFill/>
          </a:ln>
        </p:spPr>
      </p:pic>
      <p:sp>
        <p:nvSpPr>
          <p:cNvPr id="410" name=""/>
          <p:cNvSpPr txBox="1"/>
          <p:nvPr/>
        </p:nvSpPr>
        <p:spPr>
          <a:xfrm>
            <a:off x="428760" y="499680"/>
            <a:ext cx="8229600" cy="6357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Creator Michael Chaplin says that </a:t>
            </a:r>
            <a:r>
              <a:rPr b="1" i="1" lang="en-GB" sz="2700" spc="-1" strike="noStrike">
                <a:solidFill>
                  <a:srgbClr val="000000"/>
                </a:solidFill>
                <a:latin typeface="Lucida Sans Unicode"/>
              </a:rPr>
              <a:t>“viewers will like to visit Glenbogle because it’s a place where bad things don’t happen.  It’s a magical place that many will see as a paradi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Head of drama at the BBC agrees: </a:t>
            </a:r>
            <a:r>
              <a:rPr b="1" i="1" lang="en-GB" sz="2700" spc="-1" strike="noStrike">
                <a:solidFill>
                  <a:srgbClr val="000000"/>
                </a:solidFill>
                <a:latin typeface="Lucida Sans Unicode"/>
              </a:rPr>
              <a:t>“you’re welcomed into a world you want to spend time in.  Viewers have to think ‘it would be fun to live there.  I’d like to be part of that extended fami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2:48:52Z</dcterms:created>
  <dc:creator>Information Services</dc:creator>
  <dc:description/>
  <dc:language>en-US</dc:language>
  <cp:lastModifiedBy>GCU</cp:lastModifiedBy>
  <dcterms:modified xsi:type="dcterms:W3CDTF">2010-03-19T15:50:57Z</dcterms:modified>
  <cp:revision>55</cp:revision>
  <dc:subject/>
  <dc:title>Scottish TV Drama</dc:title>
</cp:coreProperties>
</file>