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C6F8-016F-4461-9CBF-F8568C001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832F-DCCC-46D7-8B1E-EE1095336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02E2-6164-4C79-8EA2-697D6BF90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6A8E-9A72-4E64-A300-CC0289574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26E0-93B9-412D-93E3-F70B05C44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D21A-D111-46A3-AA7E-75380BE2D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8FA5-E59A-40BE-9784-A20893829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AF3A-B36C-486B-950A-2DFA1E712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62DB-E075-4F8D-9ED5-D573EF6F4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08FB-96B3-4F70-AC31-F3884A73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7BD8-4603-4D48-A32D-2A6070CF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F5D5-CDFF-4A69-B690-B43BA213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4E5F3-8892-42EB-A382-8112F4C0E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ATIONAL IDENTITY IN SCOTTISH LITER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oseanne Osu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Key 19</a:t>
            </a:r>
            <a:r>
              <a:rPr b="0" lang="en-GB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century Scottish novelists: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JM Barr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ll known for writing Peter P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cottish novelist penned Auld Licht Idy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nguage and terminology of book immersed in ideas of Kaily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evolution of Scottish Liter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th novelists paved the way for people to follow su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o focused on how Scotland used to be, no literature on Scotland in the pres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y elements of truth in these novels still elements of myth al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dern reality was very differ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lydesideism in Modern Scottish Liter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ople losing sense of national ident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ught up in the past did not leave room for the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dustrialism slowed, job losses, Scotland in depre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ydesideism challenged ideas of Tartanry and Kaily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dern Literature: Irvine Wel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inspotting published in 1993 by Author Irvine Wel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ok about drugs, theft, sex and viol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un down image of Edinbur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fer to Scotland as the scum of the ea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odern Scottish Literature: Ian Rank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ll known Scottish crime wri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pector Rebus se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itty and graphic crimes based in Edinbur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dea that character hates home town of F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odern Scottish Literature: James Kellm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late was it How 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aracter goes on drinking binge and get beat up by pol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king class man from a broken fami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odern Scottish Literature as a who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y have addressed myths in Scottish liter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t portrays country as a dangerous and violent place to 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cuses on negative aspects of living in Scotland – lost our sense of national pr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cottish literature has gone through changes in last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yth to dang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dern literature may not offer better alternative for national ident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st ideas offered better feeling for Sco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w Scottish literatures are allowing Scotland to move forwar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lass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What do you think is a better portrayal of our National Identity within Scottish Literature – Past or Presen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istory of Scottish Liter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cotland has a long history of battling for it’s national ident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ndmarks throughout this history led to the emergence of Scottish Literature as we know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ttle of independence left behind many emotions within the Scottish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Fifteenth Century – The Flowe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cotland’s national and cultural presence began to emer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King had to fight for their po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cottish connection with France was fruitf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cot’s learned French language and Paris had influence in major Scottish universit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Fifteenth Century: The Flowering (con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ames IV set up the first chair of medic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ssed law that all sons of barons and land owners would attend school aged 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shop Elphinstone wanted to preserve Scottish form of worship – National ident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Fifteenth Century: The Flowering (Con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half of century Scotland reached greater level of peace with Eng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ding with other countries enhanced global st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cotland on a new path/brighter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lowering represents attractive growth of Scotland throughout this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mergence and Development of Scottish Liter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 poets stood out in late 15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century paving the way for Scottish liter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bert Henryson and William Dunba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SURFACE GORGEOUSNESS OF DUNBARS POEMS CONTRASTS WITH THE WILDER AND MORE BRUTAL EXTRAVGANCE OF HIS IMAGINATION, AND THESE, IN TURN, PLAY AGAINST A DARKER AND MORE SINGULAR SPIRIT OF PESSIMISM. DUNBAR SPEAKS OF THE PRODIGALITY OF THE COURT LIFE AND HE ALWAYS SPEAKS OF HIMSELF. HENRYSON, ON THE OTHER HAND HAS A BROADER AND LESS SELFISH NATURE, A MATURE COMPASSION FOR THE SPIRITUAL PLIGHT OF MAN AND A PRACTICAL SYMPATHY FOR THE COMMON FOLK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se of language in Scottish Liter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cot’s use language as a weapon (Bol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uthors can choose to hold on to a language associated with the past that can exclude o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cottish Gaelic becoming less attrac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ed Scots to keep a sense of national identity within liter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Union in 170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s of union passed on 1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ay 170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many put an end to the strong and independent Scot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w run by England and in threat of losing national ident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cottish authors tried to maintain identity within their nov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Key 19</a:t>
            </a:r>
            <a:r>
              <a:rPr b="0" lang="en-GB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century Scottish novelists: Sir Walter Scot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otland increasingly industriali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llapse of clan structure led to emig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lligent scholars moved to Engl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r Walter Scott penned Rob Ro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lective view of Scotland to that of Tartanry and Kailyar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30T00:23:46Z</dcterms:created>
  <dc:creator>Sarah Greene</dc:creator>
  <dc:description/>
  <dc:language>en-US</dc:language>
  <cp:lastModifiedBy>Sarah Greene</cp:lastModifiedBy>
  <dcterms:modified xsi:type="dcterms:W3CDTF">2010-04-30T01:10:23Z</dcterms:modified>
  <cp:revision>2</cp:revision>
  <dc:subject/>
  <dc:title>NATIONAL IDENTITY IN SCOTTISH LITERATURE</dc:title>
</cp:coreProperties>
</file>