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038-8F17-4714-A981-39809D0C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215-B135-4E36-B03B-DAADDE12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9E8-BA7A-4D9E-B440-959BFFD8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4B1-9FF0-401F-A2FF-8B151913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379-395E-46EB-82C2-4902424A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1D8F-E84E-48BB-86F1-2DDBD142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76EA-D11B-4FF9-B759-1C1AF863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BEF-F148-45F7-8499-F1CAC9C3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D92-9892-4256-915A-09626A4A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1CD-FB5A-4750-89C3-FBE16792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EC4-7AFB-4382-8347-E5CE39FC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D41D-28C3-4085-9E78-53E3A751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4A1B-EAE2-4595-8F75-71EAC7DE7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ATIONAL IDENTITY IN SCOTTISH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seanne Osu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19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entury Scottish novelists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JM Bar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l known for writing Peter 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ttish novelist penned Auld Licht Idy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and terminology of book immersed in ideas of Kaily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volution of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h novelists paved the way for people to follow su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 focused on how Scotland used to be, no literature on Scotland in the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elements of truth in these novels still elements of myth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rn reality was very diff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ydesideism in Modern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ople losing sense of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ught up in the past did not leave room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ustrialism slowed, job losses, Scotland in de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ydesideism challenged ideas of Tartanry and Kaily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ern Literature: Irvine Wel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inspotting published in 1993 by Author Irvine Wel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ok about drugs, theft, sex and viol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down image of Edinbur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 to Scotland as the scum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rn Scottish Literature: Ian Ran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l known Scottish crime wr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pector Rebus s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itty and graphic crimes based in Edinbur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 that character hates home town of F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rn Scottish Literature: James Kell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late was it How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racter goes on drinking binge and get beat up by pol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 class man from a broken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rn Scottish Literature as a wh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y have addressed myths in Scottish lit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portrays country as a dangerous and violent place to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es on negative aspects of living in Scotland – lost our sense of national pr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literature has gone through changes in last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yth to dan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rn literature may not offer better alternative for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ideas offered better feeling for Sc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w Scottish literatures are allowing Scotland to move forw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lass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hat do you think is a better portrayal of our National Identity within Scottish Literature – Past or Prese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story of Scottish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land has a long history of battling for it’s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ndmarks throughout this history led to the emergence of Scottish Literature as we know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ttle of independence left behind many emotions within the Scottish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Fifteenth Century – The Flow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land’s national and cultural presence began to eme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King had to fight for their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connection with France was fruit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’s learned French language and Paris had influence in major Scottish universi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Fifteenth Century: The Flowering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mes IV set up the first chair of med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sed law that all sons of barons and land owners would attend school aged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shop Elphinstone wanted to preserve Scottish form of worship –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Fifteenth Century: The Flowering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alf of century Scotland reached greater level of peace with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ing with other countries enhanced global 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land on a new path/brighter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wering represents attractive growth of Scotland throughout this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mergence and Development of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 poets stood out in late 1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entury paving the way for Scottish lit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ert Henryson and William Dunb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SURFACE GORGEOUSNESS OF DUNBARS POEMS CONTRASTS WITH THE WILDER AND MORE BRUTAL EXTRAVGANCE OF HIS IMAGINATION, AND THESE, IN TURN, PLAY AGAINST A DARKER AND MORE SINGULAR SPIRIT OF PESSIMISM. DUNBAR SPEAKS OF THE PRODIGALITY OF THE COURT LIFE AND HE ALWAYS SPEAKS OF HIMSELF. HENRYSON, ON THE OTHER HAND HAS A BROADER AND LESS SELFISH NATURE, A MATURE COMPASSION FOR THE SPIRITUAL PLIGHT OF MAN AND A PRACTICAL SYMPATHY FOR THE COMMON FOL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 of language in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’s use language as a weapon (B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thors can choose to hold on to a language associated with the past that can exclude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Gaelic becoming less attra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ed Scots to keep a sense of national identity within lit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Union in 17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s of union passed on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ay 17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many put an end to the strong and independent Scot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run by England and in threat of losing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authors tried to maintain identity within their no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19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entury Scottish novelists: Sir Walter Sco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otland increasingly industrial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pse of clan structure led to emig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lligent scholars moved to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r Walter Scott penned Rob R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ive view of Scotland to that of Tartanry and Kaily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00:23:46Z</dcterms:created>
  <dc:creator>Sarah Greene</dc:creator>
  <dc:description/>
  <dc:language>en-US</dc:language>
  <cp:lastModifiedBy>Sarah Greene</cp:lastModifiedBy>
  <dcterms:modified xsi:type="dcterms:W3CDTF">2010-04-30T01:10:23Z</dcterms:modified>
  <cp:revision>2</cp:revision>
  <dc:subject/>
  <dc:title>NATIONAL IDENTITY IN SCOTTISH LITERATURE</dc:title>
</cp:coreProperties>
</file>