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91C-5922-4A17-9F4A-BE3AD379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6B3-1BEA-41A4-AF79-B9B880F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AF3-6E13-4CF6-8678-4425FE0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86F-2EBE-4970-86E8-EAA3F541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75B-EB60-40F3-9469-2A84BEBE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CB9-FDBC-405D-B3E8-DB2F522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AD4-3B34-4BA2-BE62-3456812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D6B-6598-4715-99CA-902DA14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14C-08D7-4599-9641-857AC2A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865-CEB9-4833-ACCC-616FA5B7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E58-8B9A-4912-A682-8C8327D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C6E-D030-4988-AFB0-D43793D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9C9-DC5A-47D3-8ABA-CBA09F118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ATIONAL IDENTITY IN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seanne Os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M Bar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for writing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tish novelist penned Auld Licht Idy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terminology of book immersed in ideas of Kail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volution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novelists paved the way for people to follow s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focused on how Scotland used to be, no literature on Scotland in th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lements of truth in these novels still elements of my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reality was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ydesideism in Moder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losing sense of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ght up in the past did not leave room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ism slowed, job losses, Scotland in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ydesideism challenged ideas of Tartanry and Kail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Literature: Irvine Wel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spotting published in 1993 by Author Irvine Wel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 about drugs, theft, sex and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down image of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 to Scotland as the scum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Ian Ran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Scottish crim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pector Rebus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tty and graphic crimes based in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that character hates home town of F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James Kel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te was it How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 goes on drinking binge and get beat up by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class man from a broken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 as a w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have addressed myths in Scottish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portrays country as a dangerous and violent plac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es on negative aspects of living in Scotland – lost our sense of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literature has gone through changes in las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th to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literature may not offer better alternative for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ideas offered better feeling for Sc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cottish literatures are allowing Scotland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do you think is a better portrayal of our National Identity within Scottish Literature – Past or Pres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has a long history of battling for it’s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dmarks throughout this history led to the emergence of Scottish Literature as we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le of independence left behind many emotions within the Scot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 – The Flow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’s national and cultural presence began to e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King had to fight for thei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connection with France was frui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learned French language and Paris had influence in major Scottish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es IV set up the first chai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ed law that all sons of barons and land owners would attend school age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hop Elphinstone wanted to preserve Scottish form of worship –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lf of century Scotland reached greater level of peace with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ng with other countries enhanced global 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on a new path/brighte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ing represents attractive growth of Scotland throughout t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ergence and Development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poets stood out in late 1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 paving the way for Scottish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ert Henryson and William Dunb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URFACE GORGEOUSNESS OF DUNBARS POEMS CONTRASTS WITH THE WILDER AND MORE BRUTAL EXTRAVGANCE OF HIS IMAGINATION, AND THESE, IN TURN, PLAY AGAINST A DARKER AND MORE SINGULAR SPIRIT OF PESSIMISM. DUNBAR SPEAKS OF THE PRODIGALITY OF THE COURT LIFE AND HE ALWAYS SPEAKS OF HIMSELF. HENRYSON, ON THE OTHER HAND HAS A BROADER AND LESS SELFISH NATURE, A MATURE COMPASSION FOR THE SPIRITUAL PLIGHT OF MAN AND A PRACTICAL SYMPATHY FOR THE COMMON FOL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of language i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use language as a weapon (B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s can choose to hold on to a language associated with the past that can exclud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Gaelic becoming less attr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ed Scots to keep a sense of national identity with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ion in 17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s of union passed on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17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many put an end to the strong and independent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run by England and in threat of losing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authors tried to maintain identity within their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 Sir Walter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 increasingly indust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pse of clan structure led to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scholars moved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Walter Scott penned Rob 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ve view of Scotland to that of Tartanry and Kaily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0:23:46Z</dcterms:created>
  <dc:creator>Sarah Greene</dc:creator>
  <dc:description/>
  <dc:language>en-US</dc:language>
  <cp:lastModifiedBy>Sarah Greene</cp:lastModifiedBy>
  <dcterms:modified xsi:type="dcterms:W3CDTF">2010-04-30T01:10:23Z</dcterms:modified>
  <cp:revision>2</cp:revision>
  <dc:subject/>
  <dc:title>NATIONAL IDENTITY IN SCOTTISH LITERATURE</dc:title>
</cp:coreProperties>
</file>