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3DC-0269-496D-B80E-90F67C0C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CF6-ED0E-429B-8F9A-6E724041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234-8A93-476C-ABA3-E3E26E7F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B95-CA76-48B2-9694-575C048A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40D-0F1B-4287-BCD4-FB75E479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96E-0B5E-40E5-B617-6D035FB6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123-3E04-43C7-90B5-BE99C1AC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7A7-315F-4D98-B78C-D4A40855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7FE-A975-4B58-BA30-FE002D54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B6C-3994-411E-A7D4-68232431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BD4-56AB-4370-873D-AAA1DE79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630-8123-4744-A6CF-FD995179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1336-0C70-4303-8DDB-F92225051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ATIONAL IDENTITY IN SCOTTISH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seanne Osu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19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entury Scottish novelists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M Bar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 known for writing Peter 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ttish novelist penned Auld Licht Idy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and terminology of book immersed in ideas of Kaily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volution of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 novelists paved the way for people to follow s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 focused on how Scotland used to be, no literature on Scotland in the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elements of truth in these novels still elements of myth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rn reality was very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ydesideism in Modern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ople losing sense of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ught up in the past did not leave room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ustrialism slowed, job losses, Scotland in de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ydesideism challenged ideas of Tartanry and Kaily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ern Literature: Irvine Wel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nspotting published in 1993 by Author Irvine Wel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ok about drugs, theft, sex and vio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down image of Edinbur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 to Scotland as the scum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: Ian Ran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 known Scottish crime wr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pector Rebus s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itty and graphic crimes based in Edinbur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 that character hates home town of F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: James Kell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late was it How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acter goes on drinking binge and get beat up by pol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 class man from a broken fam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dern Scottish Literature as a wh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y have addressed myths in Scottish lit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portrays country as a dangerous and violent place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es on negative aspects of living in Scotland – lost our sense of national p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literature has gone through changes in last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yth to da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rn literature may not offer better alternative for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ideas offered better feeling for Sc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w Scottish literatures are allowing Scotland to move forw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lass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do you think is a better portrayal of our National Identity within Scottish Literature – Past or Prese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y of Scottish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 has a long history of battling for it’s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dmarks throughout this history led to the emergence of Scottish Literature as we know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ttle of independence left behind many emotions within the Scottish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 – The Flow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’s national and cultural presence began to eme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King had to fight for their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connection with France was fruit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’s learned French language and Paris had influence in major Scottish univers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: The Flowering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ames IV set up the first chair of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ed law that all sons of barons and land owners would attend school aged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shop Elphinstone wanted to preserve Scottish form of worship –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Fifteenth Century: The Flowering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alf of century Scotland reached greater level of peace with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ng with other countries enhanced global 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land on a new path/brighter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wering represents attractive growth of Scotland throughout this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mergence and Development of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 poets stood out in late 1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entury paving the way for Scottish lit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ert Henryson and William Dunb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SURFACE GORGEOUSNESS OF DUNBARS POEMS CONTRASTS WITH THE WILDER AND MORE BRUTAL EXTRAVGANCE OF HIS IMAGINATION, AND THESE, IN TURN, PLAY AGAINST A DARKER AND MORE SINGULAR SPIRIT OF PESSIMISM. DUNBAR SPEAKS OF THE PRODIGALITY OF THE COURT LIFE AND HE ALWAYS SPEAKS OF HIMSELF. HENRYSON, ON THE OTHER HAND HAS A BROADER AND LESS SELFISH NATURE, A MATURE COMPASSION FOR THE SPIRITUAL PLIGHT OF MAN AND A PRACTICAL SYMPATHY FOR THE COMMON FOL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 of language in Scottish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’s use language as a weapon (B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thors can choose to hold on to a language associated with the past that can exclude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Gaelic becoming less attra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ed Scots to keep a sense of national identity within lit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Union in 17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s of union passed on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y 17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many put an end to the strong and independent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run by England and in threat of losing national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authors tried to maintain identity within their no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19</a:t>
            </a:r>
            <a:r>
              <a:rPr b="0" lang="en-GB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entury Scottish novelists: Sir Walter Sco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otland increasingly industrial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pse of clan structure led to emig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lligent scholars moved to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r Walter Scott penned Rob R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ive view of Scotland to that of Tartanry and Kaily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00:23:46Z</dcterms:created>
  <dc:creator>Sarah Greene</dc:creator>
  <dc:description/>
  <dc:language>en-US</dc:language>
  <cp:lastModifiedBy>Sarah Greene</cp:lastModifiedBy>
  <dcterms:modified xsi:type="dcterms:W3CDTF">2010-04-30T01:10:23Z</dcterms:modified>
  <cp:revision>2</cp:revision>
  <dc:subject/>
  <dc:title>NATIONAL IDENTITY IN SCOTTISH LITERATURE</dc:title>
</cp:coreProperties>
</file>